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6.jpeg" ContentType="image/jpeg"/>
  <Override PartName="/ppt/media/image5.wmf" ContentType="image/x-wmf"/>
  <Override PartName="/ppt/media/image22.wmf" ContentType="image/x-wmf"/>
  <Override PartName="/ppt/media/image7.jpeg" ContentType="image/jpeg"/>
  <Override PartName="/ppt/media/image21.wmf" ContentType="image/x-wmf"/>
  <Override PartName="/ppt/media/image19.wmf" ContentType="image/x-wmf"/>
  <Override PartName="/ppt/media/image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5.wmf" ContentType="image/x-wmf"/>
  <Override PartName="/ppt/media/image14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3C76-40C2-4779-937C-C56C42BB0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0EA3-8678-4812-8621-3ED31077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435E6F-A785-4E63-84E7-02E128E3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74BFC5-168F-4BD0-8A72-BBAACC10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A710DF-DE37-478C-83F1-3D0A41EC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69AF32-BCB6-4A26-A04C-DBD0AB94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D0A926-911B-4466-BAA7-42AC8C53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2F5871-5E9D-440E-BD43-4F482E3C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3339C3-F9EA-4E02-A8B4-45EC55AD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31E1D8-E7B1-4C6B-96ED-A30B03D21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123E26-9432-4FAF-A8B6-278EA7ABF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F13349-FA55-4BFB-AF58-0397C4B5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096F-6672-44E5-9257-86CFAB4AD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5FEA38-7892-488D-BB1F-0648FC3F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B62B9D-6B62-4433-BDD0-58102FEA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A67095-5290-4003-A080-929CF247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6466EA-B336-4B63-980B-ADE262B3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F7A03B-6DB8-4647-9BC3-9F9AF4DC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F793E9-F7D3-4AD3-B4C4-5A8604C2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F89F12-5682-4472-BCB8-F45FD5A0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48752A-45B7-478D-B82C-323055EC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6CB793-6A7F-417E-8ED6-F1081722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755C5E-EB41-40BC-A00E-11460D149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63F7-6640-41FF-AF79-1FAE717A5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C4D3B5-92F4-4F1C-AA2E-6A7D5393B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9218865-B080-419B-B3AC-49E222589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2826F7B-D863-4268-9E18-21A7C56F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3D828E7-99EA-4655-AAD5-2864A62C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D7CE038-6A1E-4948-935F-1C0013F2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BDEF092-D87A-47D0-A07C-C08012D7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4148112-E61B-4006-AAED-91392A55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B86A51E-5FCA-4FB3-ADDD-EF6DDD27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5708FB5-352B-4F77-8349-716AD86B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0E68375-E1B5-4F8A-9FCC-4D5BCA2F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CFCE3-E179-4598-ADD1-762AD9D65F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D1C427A-EC11-4D50-8872-5F44FC2A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4C2A9B9-809B-4538-9915-7BF9D9A3F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10EFBAA-79AD-4572-99BD-3EB6DBC9C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22081B-C363-4B8E-98EF-11706AE98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65421F-C213-4CD9-BFC8-77226774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407691-FEE7-4908-8A1F-AE7F9C8E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8AE311-B20A-4991-B76A-772C355D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270AF2-8AC1-47ED-9646-51340AF5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E2D911-C908-46C7-833C-55509332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A993A5-F5D5-4A11-8392-53A559AE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90D901-50D2-414F-87D0-EF6847D7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C1E6CB-99E3-4B13-9441-AB109D8B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DB20A0-5F3F-444E-B00D-BE058E87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E26B7B-0C2E-4AC8-9420-310989C7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94A642-F2B8-41ED-9BBA-1DCE25FDA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DB1299-1FE8-4923-9C1F-6242E37E0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663329A-2166-4880-86C9-8D317CAE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0C71468-C68D-40B0-9C46-E11DA9AC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3C521DF-2339-45CB-BC4D-FDECE7FF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DA5BD71-A9F6-473C-98CB-FDEBF07F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6DB9D65-DABF-4116-A55E-0CE39659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43F75-FCBD-497C-9398-D669A155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73FA1A5-F918-40F2-BED3-32BD723D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EBBFB02-7B4E-4CDB-B307-2757CAD0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1FF9095-B075-4BCD-BBD1-3E580A65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33833AC-3652-4D50-BBED-534D2694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FF41961-9A1B-4BC6-A8BA-8E7EB503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46CBBC1-FDDF-40BF-977D-8CFCBCC6D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CE362A6-9720-4F1B-8B7E-3F3B3D5E6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1327A5B-894E-4F44-9DF5-97109E684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1A1EEFD-BB10-4369-AC25-5FB5CDAE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B10B244-8CB6-4F06-8A7F-8125FB2D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24F1A-66A7-48C5-9B21-43268B55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84715ED-7D2A-48D8-81BC-176284D1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1DC6D81-BD44-4EB7-B93A-CD5BC1B3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2BB502D-9F88-46C0-9403-B88E99D8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6B07721-E451-4BFD-8A0A-587D2724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DA2B762-05CF-4BC7-BF75-8DACBFDD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61ACD83-98E4-47BA-ADED-F332CC4F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E209CAB-7FDF-467F-901A-5FFCB1E8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CEBFCF5-CF09-4EA2-B17F-90CE5445A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7ED48BA-CB7C-4691-B2C5-52558E976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87AFB92-C8E1-4608-9B63-C76952303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C7209-EF1E-4D89-ACE2-472239473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A5346AE-3824-40BD-B212-CE2FDBED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A3BCD9B-71BF-4715-9C13-D5115BA8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95FDF35-01B0-48A8-AA7D-5525EE3D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58BC66A-3AC8-4D25-9676-4212AEDC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FEE68F7-8593-4A34-8829-C3A075C7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BAEB2E0-03E3-4FB4-BD49-7783CDC2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433A71C-D237-41A1-B01A-F98BA770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2F9A14D-992B-499C-B73C-0C0462E8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F44B256-2755-46B0-9668-7FDABB07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6DFB512-8D9C-4D7B-A935-2A5E96558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A7F4B1-F5FC-497E-8532-E7EDD556F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533F28D-FEB8-4486-8BDF-F7A0AB3D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44F27EE-79F9-4D20-A5A8-B8E672C10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73FC8C8-532C-4DAF-B274-660E4249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82183C0-FF35-4D9B-B22E-386E0671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0E29F2A-D258-4AF3-AE33-256026F0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D979CDD-3E77-4BD8-BB20-9A445008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EED33FC-337A-4478-B51A-73A5BA28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39F3952-F4E8-4C90-8DE8-7353FAD1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B34B6EA-FE33-4EB2-8F9C-B80CB8FF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9324A1A-AE63-4E15-97CB-80173814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97C3C-0A38-44C6-98AE-78AEFD58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3BD1D5B-25CA-48C3-9922-E951CB1A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9EB28C7-0E5B-4B15-A087-6A8D35D24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72E174C-54FA-4F27-BB2C-5C2F9F902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BCA5-9401-4A87-9D0E-971BC858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7A344-1956-4DD0-93D5-9CA5AF4A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4D507-3DF0-49FD-99B2-E499D013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290B5-EFFF-4278-B01B-B8E6FDAD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CBB13-71EB-443F-AD64-C1E98740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13829-8D3B-431D-9C4A-EF375EA8C4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D2E116-2F46-495B-87E1-B567964E9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1C1D9A-023F-4C3B-A2DE-2AF88F7A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94D8BE-47F2-4B2A-B993-435BB5CF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EE5DB7-2854-4671-9920-5A61BF69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E80993-4B80-4542-8B9F-EAC8764E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DE46-F32E-41EB-8A76-CF944039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ED37FC-9F08-4154-B2F0-031E8725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FBD4B1-CCF1-4E0A-A832-26883E85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BEDF34-FEA0-4703-A7A1-338F4FE9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F92FF9-1C55-437F-97F7-C9B7C776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ADA2BA-8EDC-48D2-9FDF-FFC92AD9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C6AB42-2509-48A7-B9F5-6E5C03CC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EEA5B6-8D03-4FF2-8B19-E47AE0764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099A28-599F-4976-8D7B-46BBACF0A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112355-68B5-4D44-9117-4F11409B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60797E-4C3F-4BFA-9B10-B7952A4B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93F7-65C7-48C3-A6A9-0BEF546F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CAA51C-A3AF-4A7A-8258-ABAB36BC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575450-EAB5-4D79-A178-D8B65DCB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1B8E04-4644-43D1-AFB5-D52DCB43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3E8C52-3993-4CE6-8F12-85082E5D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054C9B-8403-476A-A986-C55C503E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A845C1-08D2-49E6-9570-A9F271C2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635E4B-2AAC-4725-AD4B-65785720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B978E9-8E3B-4809-90A9-AF9507588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B2B96A-DD16-4EFF-BC4A-912316100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CE66F6-5597-493B-8F77-6B6A5BAFB1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3A32-0863-4F9D-9A80-4433D419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989AC4-0772-4E3A-A31E-E20E3571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68862F-8915-4C62-B70F-653726E8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03E569-C378-4A03-A8E6-BF06D643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E4EEB8-B607-4481-885A-B4D46926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09E1A2-6859-494B-B45A-35C9E8815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476459-5D61-4D42-BFD8-43975BA3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67AC7F-1813-4F0E-BF5C-E4DC217A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0C8A3A-45E9-433E-882C-4DDEE2D4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5BAA12-D17E-4096-93E8-F1AA03D0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9FED8D-9C64-40FA-A4FA-D9A72047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CA07-3932-4818-AA34-A023690E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761E7B-4304-4145-834D-5091CDBDFD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025415-2A64-467D-8BBF-57D47871F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B2B516-EB8E-4D93-A5B3-D012B46C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B4EAF0-F43E-4741-8738-604CBDB0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19C7F1-4C35-4FBD-8685-4CB89D5B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903BA5-83E2-435F-B7EE-0C77F6A5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A9056D-8F06-4ECF-94F6-1D5465FD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845D6C-0522-4F6E-9B52-00C2C66C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084B17-64FA-44FD-B9CC-73589885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0FE483-C4B1-40C6-AC9F-FEED2CF5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58CA-BC9A-4C31-817E-687D9B2D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C19E0B-C096-42A3-9CDE-781AC69A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B9E202-B7A1-4A1B-AF2A-BDD619E0D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042FD4-E733-4616-BD20-6F6FDE37C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444D08-F707-436A-8CE0-DDD75CB93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43B7FC-1AF7-4EED-BE0F-5AA4BF11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EB95D9-F04C-4D8F-9462-5B769D1A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4AC9E4-734B-4421-AA59-B58A8B4D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C40645-AE51-435A-897A-4E694817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C7D664-FE61-45E9-A89C-42F59105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874DC4-FDD9-4A46-A7F3-B53920FB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86D6-7265-4D8E-9B2D-5915FA03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D98C6C-AC71-4ED1-985E-57C9BDE3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34DE02-542A-43F7-AF79-0284561B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597B37-89C2-4345-B77E-C24FCA37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4F326C-C4A0-4786-94FF-F07D1AF62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74B05E-EC8C-48D9-9B01-4D9F76750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AA10A9-EBFE-4048-9DCB-A475D417B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F39C75-EC58-4855-8697-B59C4C4B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0DDDD9-35DA-4CD0-92CF-412BDA6E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560205-6783-47AD-8E8E-9404FE5B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293ADB-132E-468E-94D7-6584BA8A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8EC6-C075-4B65-A891-91A2839D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44BB79-B6CF-493E-9F6A-443EC6D3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016943-407C-4A5D-8AE7-3CEB77C6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AB4956-C5B8-46BA-B43E-40108AFB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6807E8-70A3-4BA9-98BC-10944A8C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8B4277-93FF-48FE-935D-9404C587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DC0746-D705-41C3-850A-F03FB8282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CCD8A5-83C6-4944-B1B0-57CF7FB6B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06D7F6-DA4B-4F04-8E82-25F07DE66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6CB78D-AC78-4BFD-8CBD-D8E788EC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590742-B7CC-4453-A99B-77359C73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C1CD-CFB5-44E5-BF57-7F0D2C808A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0" y="1511280"/>
            <a:ext cx="9129600" cy="4460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9"/>
          <p:cNvSpPr/>
          <p:nvPr/>
        </p:nvSpPr>
        <p:spPr>
          <a:xfrm>
            <a:off x="1403280" y="1509840"/>
            <a:ext cx="7740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96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BG MK IPA Cross-border Programme</a:t>
            </a: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CCI Number 2007CB16IPO00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0" descr="C:\Users\tanya\Desktop\::::5. Images HR:drapeau+map.psd"/>
          <p:cNvPicPr/>
          <p:nvPr/>
        </p:nvPicPr>
        <p:blipFill>
          <a:blip r:embed="rId2"/>
          <a:stretch/>
        </p:blipFill>
        <p:spPr>
          <a:xfrm>
            <a:off x="0" y="0"/>
            <a:ext cx="9144000" cy="150984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1"/>
          <p:cNvSpPr/>
          <p:nvPr/>
        </p:nvSpPr>
        <p:spPr>
          <a:xfrm>
            <a:off x="0" y="1916280"/>
            <a:ext cx="9144000" cy="4941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3" descr=""/>
          <p:cNvPicPr/>
          <p:nvPr/>
        </p:nvPicPr>
        <p:blipFill>
          <a:blip r:embed="rId3"/>
          <a:stretch/>
        </p:blipFill>
        <p:spPr>
          <a:xfrm>
            <a:off x="611280" y="5661000"/>
            <a:ext cx="590400" cy="361800"/>
          </a:xfrm>
          <a:prstGeom prst="rect">
            <a:avLst/>
          </a:prstGeom>
          <a:ln w="0">
            <a:noFill/>
          </a:ln>
        </p:spPr>
      </p:pic>
      <p:sp>
        <p:nvSpPr>
          <p:cNvPr id="9" name="Text Box 14"/>
          <p:cNvSpPr/>
          <p:nvPr/>
        </p:nvSpPr>
        <p:spPr>
          <a:xfrm>
            <a:off x="611280" y="6093000"/>
            <a:ext cx="199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This project is funded 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the European Un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Text Box 15"/>
          <p:cNvSpPr/>
          <p:nvPr/>
        </p:nvSpPr>
        <p:spPr>
          <a:xfrm>
            <a:off x="6541920" y="6093000"/>
            <a:ext cx="2133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This project is implemented 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Project Planning &amp; Management Lt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6" descr="PPM_Logo_3000pix"/>
          <p:cNvPicPr/>
          <p:nvPr/>
        </p:nvPicPr>
        <p:blipFill>
          <a:blip r:embed="rId4"/>
          <a:srcRect l="0" t="0" r="0" b="951"/>
          <a:stretch/>
        </p:blipFill>
        <p:spPr>
          <a:xfrm>
            <a:off x="8172360" y="5646600"/>
            <a:ext cx="474840" cy="37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7" descr="EU flag"/>
          <p:cNvPicPr/>
          <p:nvPr/>
        </p:nvPicPr>
        <p:blipFill>
          <a:blip r:embed="rId2"/>
          <a:stretch/>
        </p:blipFill>
        <p:spPr>
          <a:xfrm>
            <a:off x="468360" y="6237360"/>
            <a:ext cx="647640" cy="43812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9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9" descr=""/>
          <p:cNvPicPr/>
          <p:nvPr/>
        </p:nvPicPr>
        <p:blipFill>
          <a:blip r:embed="rId3"/>
          <a:stretch/>
        </p:blipFill>
        <p:spPr>
          <a:xfrm>
            <a:off x="8042400" y="6237360"/>
            <a:ext cx="598320" cy="50472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7"/>
          </p:nvPr>
        </p:nvSpPr>
        <p:spPr>
          <a:xfrm>
            <a:off x="1476360" y="6265440"/>
            <a:ext cx="612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Serbia IPA Cross-Border Programme CCI Number 2007CB16IPO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BFAC-3B40-4E96-B9B8-B40F504CA3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7" descr="EU flag"/>
          <p:cNvPicPr/>
          <p:nvPr/>
        </p:nvPicPr>
        <p:blipFill>
          <a:blip r:embed="rId2"/>
          <a:stretch/>
        </p:blipFill>
        <p:spPr>
          <a:xfrm>
            <a:off x="468360" y="6237360"/>
            <a:ext cx="647640" cy="43812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9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9" descr=""/>
          <p:cNvPicPr/>
          <p:nvPr/>
        </p:nvPicPr>
        <p:blipFill>
          <a:blip r:embed="rId3"/>
          <a:stretch/>
        </p:blipFill>
        <p:spPr>
          <a:xfrm>
            <a:off x="8042400" y="6237360"/>
            <a:ext cx="598320" cy="50472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0"/>
          </p:nvPr>
        </p:nvSpPr>
        <p:spPr>
          <a:xfrm>
            <a:off x="1476360" y="6265440"/>
            <a:ext cx="612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Serbia IPA Cross-Border Programme CCI Number 2007CB16IPO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E9C3-2E4D-4DDD-8AB9-C50A815F1E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7" descr="EU flag"/>
          <p:cNvPicPr/>
          <p:nvPr/>
        </p:nvPicPr>
        <p:blipFill>
          <a:blip r:embed="rId2"/>
          <a:stretch/>
        </p:blipFill>
        <p:spPr>
          <a:xfrm>
            <a:off x="468360" y="6237360"/>
            <a:ext cx="647640" cy="43812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9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9" descr=""/>
          <p:cNvPicPr/>
          <p:nvPr/>
        </p:nvPicPr>
        <p:blipFill>
          <a:blip r:embed="rId3"/>
          <a:stretch/>
        </p:blipFill>
        <p:spPr>
          <a:xfrm>
            <a:off x="8042400" y="6237360"/>
            <a:ext cx="598320" cy="50472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3"/>
          </p:nvPr>
        </p:nvSpPr>
        <p:spPr>
          <a:xfrm>
            <a:off x="1476360" y="6265440"/>
            <a:ext cx="612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Serbia IPA Cross-Border Programme CCI Number 2007CB16IPO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6A07-3FD7-4088-96FF-90564C698D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7" descr="EU flag"/>
          <p:cNvPicPr/>
          <p:nvPr/>
        </p:nvPicPr>
        <p:blipFill>
          <a:blip r:embed="rId2"/>
          <a:stretch/>
        </p:blipFill>
        <p:spPr>
          <a:xfrm>
            <a:off x="468360" y="6237360"/>
            <a:ext cx="647640" cy="43812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9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9" descr=""/>
          <p:cNvPicPr/>
          <p:nvPr/>
        </p:nvPicPr>
        <p:blipFill>
          <a:blip r:embed="rId3"/>
          <a:stretch/>
        </p:blipFill>
        <p:spPr>
          <a:xfrm>
            <a:off x="8042400" y="6237360"/>
            <a:ext cx="598320" cy="50472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6"/>
          </p:nvPr>
        </p:nvSpPr>
        <p:spPr>
          <a:xfrm>
            <a:off x="1476360" y="6265440"/>
            <a:ext cx="612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Serbia IPA Cross-Border Programme CCI Number 2007CB16IPO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C9B4-124A-477C-80B1-1133569454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7" descr="EU flag"/>
          <p:cNvPicPr/>
          <p:nvPr/>
        </p:nvPicPr>
        <p:blipFill>
          <a:blip r:embed="rId2"/>
          <a:stretch/>
        </p:blipFill>
        <p:spPr>
          <a:xfrm>
            <a:off x="468360" y="6237360"/>
            <a:ext cx="647640" cy="43812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9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9" descr=""/>
          <p:cNvPicPr/>
          <p:nvPr/>
        </p:nvPicPr>
        <p:blipFill>
          <a:blip r:embed="rId3"/>
          <a:stretch/>
        </p:blipFill>
        <p:spPr>
          <a:xfrm>
            <a:off x="8042400" y="6237360"/>
            <a:ext cx="598320" cy="50472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39"/>
          </p:nvPr>
        </p:nvSpPr>
        <p:spPr>
          <a:xfrm>
            <a:off x="1476360" y="6265440"/>
            <a:ext cx="612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Serbia IPA Cross-Border Programme CCI Number 2007CB16IPO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6CCC-ABD7-439A-9B3E-053BEDAAA25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7" descr="EU flag"/>
          <p:cNvPicPr/>
          <p:nvPr/>
        </p:nvPicPr>
        <p:blipFill>
          <a:blip r:embed="rId2"/>
          <a:stretch/>
        </p:blipFill>
        <p:spPr>
          <a:xfrm>
            <a:off x="468360" y="6237360"/>
            <a:ext cx="647640" cy="43812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9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9" descr=""/>
          <p:cNvPicPr/>
          <p:nvPr/>
        </p:nvPicPr>
        <p:blipFill>
          <a:blip r:embed="rId3"/>
          <a:stretch/>
        </p:blipFill>
        <p:spPr>
          <a:xfrm>
            <a:off x="8042400" y="6237360"/>
            <a:ext cx="598320" cy="504720"/>
          </a:xfrm>
          <a:prstGeom prst="rect">
            <a:avLst/>
          </a:prstGeom>
          <a:ln w="0">
            <a:noFill/>
          </a:ln>
        </p:spPr>
      </p:pic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42"/>
          </p:nvPr>
        </p:nvSpPr>
        <p:spPr>
          <a:xfrm>
            <a:off x="1476360" y="6265440"/>
            <a:ext cx="612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Serbia IPA Cross-Border Programme CCI Number 2007CB16IPO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4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CBD2-53FC-437B-9FAF-52929898750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7" descr="EU flag"/>
          <p:cNvPicPr/>
          <p:nvPr/>
        </p:nvPicPr>
        <p:blipFill>
          <a:blip r:embed="rId2"/>
          <a:stretch/>
        </p:blipFill>
        <p:spPr>
          <a:xfrm>
            <a:off x="468360" y="6237360"/>
            <a:ext cx="647640" cy="43812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9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9" descr=""/>
          <p:cNvPicPr/>
          <p:nvPr/>
        </p:nvPicPr>
        <p:blipFill>
          <a:blip r:embed="rId3"/>
          <a:stretch/>
        </p:blipFill>
        <p:spPr>
          <a:xfrm>
            <a:off x="8042400" y="6237360"/>
            <a:ext cx="598320" cy="50472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4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45"/>
          </p:nvPr>
        </p:nvSpPr>
        <p:spPr>
          <a:xfrm>
            <a:off x="1476360" y="6265440"/>
            <a:ext cx="612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Serbia IPA Cross-Border Programme CCI Number 2007CB16IPO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4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6674-FED3-45F9-8976-925DA64ECCE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99BB-7FF9-49B5-892C-9DC255AE787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EU flag"/>
          <p:cNvPicPr/>
          <p:nvPr/>
        </p:nvPicPr>
        <p:blipFill>
          <a:blip r:embed="rId2"/>
          <a:stretch/>
        </p:blipFill>
        <p:spPr>
          <a:xfrm>
            <a:off x="468360" y="6237360"/>
            <a:ext cx="647640" cy="4381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9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"/>
          <p:cNvPicPr/>
          <p:nvPr/>
        </p:nvPicPr>
        <p:blipFill>
          <a:blip r:embed="rId3"/>
          <a:stretch/>
        </p:blipFill>
        <p:spPr>
          <a:xfrm>
            <a:off x="8042400" y="6237360"/>
            <a:ext cx="59832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3B98-E512-44AE-B1DC-C9DF39153F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7" descr="EU flag"/>
          <p:cNvPicPr/>
          <p:nvPr/>
        </p:nvPicPr>
        <p:blipFill>
          <a:blip r:embed="rId2"/>
          <a:stretch/>
        </p:blipFill>
        <p:spPr>
          <a:xfrm>
            <a:off x="468360" y="6237360"/>
            <a:ext cx="647640" cy="4381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9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9" descr=""/>
          <p:cNvPicPr/>
          <p:nvPr/>
        </p:nvPicPr>
        <p:blipFill>
          <a:blip r:embed="rId3"/>
          <a:stretch/>
        </p:blipFill>
        <p:spPr>
          <a:xfrm>
            <a:off x="8042400" y="6237360"/>
            <a:ext cx="598320" cy="504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0"/>
          </p:nvPr>
        </p:nvSpPr>
        <p:spPr>
          <a:xfrm>
            <a:off x="1476360" y="6265440"/>
            <a:ext cx="612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Serbia IPA Cross-Border Programme CCI Number 2007CB16IPO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4A87-2337-4C1B-9540-3000CF34656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7" descr="EU flag"/>
          <p:cNvPicPr/>
          <p:nvPr/>
        </p:nvPicPr>
        <p:blipFill>
          <a:blip r:embed="rId2"/>
          <a:stretch/>
        </p:blipFill>
        <p:spPr>
          <a:xfrm>
            <a:off x="468360" y="6237360"/>
            <a:ext cx="647640" cy="4381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9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9" descr=""/>
          <p:cNvPicPr/>
          <p:nvPr/>
        </p:nvPicPr>
        <p:blipFill>
          <a:blip r:embed="rId3"/>
          <a:stretch/>
        </p:blipFill>
        <p:spPr>
          <a:xfrm>
            <a:off x="8042400" y="6237360"/>
            <a:ext cx="598320" cy="504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"/>
          <p:cNvPicPr/>
          <p:nvPr/>
        </p:nvPicPr>
        <p:blipFill>
          <a:blip r:embed="rId4"/>
          <a:stretch/>
        </p:blipFill>
        <p:spPr>
          <a:xfrm>
            <a:off x="8042400" y="6237360"/>
            <a:ext cx="598320" cy="5047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F0D4-E187-419F-A4BF-8213D7832C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7" descr="EU flag"/>
          <p:cNvPicPr/>
          <p:nvPr/>
        </p:nvPicPr>
        <p:blipFill>
          <a:blip r:embed="rId2"/>
          <a:stretch/>
        </p:blipFill>
        <p:spPr>
          <a:xfrm>
            <a:off x="468360" y="6237360"/>
            <a:ext cx="647640" cy="43812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9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9" descr=""/>
          <p:cNvPicPr/>
          <p:nvPr/>
        </p:nvPicPr>
        <p:blipFill>
          <a:blip r:embed="rId3"/>
          <a:stretch/>
        </p:blipFill>
        <p:spPr>
          <a:xfrm>
            <a:off x="8042400" y="6237360"/>
            <a:ext cx="598320" cy="50472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5"/>
          </p:nvPr>
        </p:nvSpPr>
        <p:spPr>
          <a:xfrm>
            <a:off x="1476360" y="6265440"/>
            <a:ext cx="612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Serbia IPA Cross-Border Programme CCI Number 2007CB16IPO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EBE1-3645-45F6-A0F8-17B0DE81474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7" descr="EU flag"/>
          <p:cNvPicPr/>
          <p:nvPr/>
        </p:nvPicPr>
        <p:blipFill>
          <a:blip r:embed="rId2"/>
          <a:stretch/>
        </p:blipFill>
        <p:spPr>
          <a:xfrm>
            <a:off x="468360" y="6237360"/>
            <a:ext cx="647640" cy="43812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9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9" descr=""/>
          <p:cNvPicPr/>
          <p:nvPr/>
        </p:nvPicPr>
        <p:blipFill>
          <a:blip r:embed="rId3"/>
          <a:stretch/>
        </p:blipFill>
        <p:spPr>
          <a:xfrm>
            <a:off x="8042400" y="6237360"/>
            <a:ext cx="598320" cy="50472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8"/>
          </p:nvPr>
        </p:nvSpPr>
        <p:spPr>
          <a:xfrm>
            <a:off x="1476360" y="6265440"/>
            <a:ext cx="612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Serbia IPA Cross-Border Programme CCI Number 2007CB16IPO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89E9-0C03-4A62-99BF-8FE224E6558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7" descr="EU flag"/>
          <p:cNvPicPr/>
          <p:nvPr/>
        </p:nvPicPr>
        <p:blipFill>
          <a:blip r:embed="rId2"/>
          <a:stretch/>
        </p:blipFill>
        <p:spPr>
          <a:xfrm>
            <a:off x="468360" y="6237360"/>
            <a:ext cx="647640" cy="43812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9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9" descr=""/>
          <p:cNvPicPr/>
          <p:nvPr/>
        </p:nvPicPr>
        <p:blipFill>
          <a:blip r:embed="rId3"/>
          <a:stretch/>
        </p:blipFill>
        <p:spPr>
          <a:xfrm>
            <a:off x="8042400" y="6237360"/>
            <a:ext cx="598320" cy="50472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1"/>
          </p:nvPr>
        </p:nvSpPr>
        <p:spPr>
          <a:xfrm>
            <a:off x="1476360" y="6265440"/>
            <a:ext cx="612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Serbia IPA Cross-Border Programme CCI Number 2007CB16IPO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A0F7-25A4-4112-9D78-03741A909B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7" descr="EU flag"/>
          <p:cNvPicPr/>
          <p:nvPr/>
        </p:nvPicPr>
        <p:blipFill>
          <a:blip r:embed="rId2"/>
          <a:stretch/>
        </p:blipFill>
        <p:spPr>
          <a:xfrm>
            <a:off x="468360" y="6237360"/>
            <a:ext cx="647640" cy="43812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9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9" descr=""/>
          <p:cNvPicPr/>
          <p:nvPr/>
        </p:nvPicPr>
        <p:blipFill>
          <a:blip r:embed="rId3"/>
          <a:stretch/>
        </p:blipFill>
        <p:spPr>
          <a:xfrm>
            <a:off x="8042400" y="6237360"/>
            <a:ext cx="598320" cy="50472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4"/>
          </p:nvPr>
        </p:nvSpPr>
        <p:spPr>
          <a:xfrm>
            <a:off x="1476360" y="6265440"/>
            <a:ext cx="612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Serbia IPA Cross-Border Programme CCI Number 2007CB16IPO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944A-3B57-49BC-866D-9579363A50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4"/>
          <p:cNvSpPr/>
          <p:nvPr/>
        </p:nvSpPr>
        <p:spPr>
          <a:xfrm>
            <a:off x="385920" y="2205000"/>
            <a:ext cx="8596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paration of Bulgaria –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the former Yugoslav Republic of Macedonia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IPA Cross-border cooperation Program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014 – 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701640" y="3654360"/>
            <a:ext cx="7605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3rd Joint Working Group me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Presentation of the final draft of the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6"/>
          <p:cNvSpPr/>
          <p:nvPr/>
        </p:nvSpPr>
        <p:spPr>
          <a:xfrm>
            <a:off x="3132000" y="5183280"/>
            <a:ext cx="324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Sofia, 21 August  20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5"/>
          <p:cNvSpPr/>
          <p:nvPr/>
        </p:nvSpPr>
        <p:spPr>
          <a:xfrm>
            <a:off x="0" y="1503360"/>
            <a:ext cx="9158400" cy="431640"/>
          </a:xfrm>
          <a:prstGeom prst="rect">
            <a:avLst/>
          </a:prstGeom>
          <a:solidFill>
            <a:srgbClr val="ffc9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IPA Cross-border Programme CCI Number 2007CB16IPO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6" descr=""/>
          <p:cNvPicPr/>
          <p:nvPr/>
        </p:nvPicPr>
        <p:blipFill>
          <a:blip r:embed="rId1"/>
          <a:stretch/>
        </p:blipFill>
        <p:spPr>
          <a:xfrm>
            <a:off x="1671480" y="1469880"/>
            <a:ext cx="530280" cy="44640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11" descr="bulgaria-flag-64-p-small"/>
          <p:cNvPicPr/>
          <p:nvPr/>
        </p:nvPicPr>
        <p:blipFill>
          <a:blip r:embed="rId2"/>
          <a:stretch/>
        </p:blipFill>
        <p:spPr>
          <a:xfrm>
            <a:off x="2411280" y="1628640"/>
            <a:ext cx="289080" cy="1810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13" descr="mkd-small"/>
          <p:cNvPicPr/>
          <p:nvPr/>
        </p:nvPicPr>
        <p:blipFill>
          <a:blip r:embed="rId3"/>
          <a:stretch/>
        </p:blipFill>
        <p:spPr>
          <a:xfrm>
            <a:off x="2771640" y="1628640"/>
            <a:ext cx="287640" cy="1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Footer Placeholder 4"/>
          <p:cNvSpPr/>
          <p:nvPr/>
        </p:nvSpPr>
        <p:spPr>
          <a:xfrm>
            <a:off x="1476360" y="6265800"/>
            <a:ext cx="612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ormer Yugoslav Republic of Macedonia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IPA Cross-Border Programme CCI Number 2007CB16IPO006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4" name="Object 1"/>
          <p:cNvGraphicFramePr/>
          <p:nvPr/>
        </p:nvGraphicFramePr>
        <p:xfrm>
          <a:off x="200160" y="1562040"/>
          <a:ext cx="8705880" cy="56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1562040"/>
                    <a:ext cx="870588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Rectangle 2"/>
          <p:cNvSpPr/>
          <p:nvPr/>
        </p:nvSpPr>
        <p:spPr>
          <a:xfrm>
            <a:off x="179280" y="274680"/>
            <a:ext cx="885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Bulgaria-the former Yugoslav Republic of Macedonia IPA Cross-border Programme (2014-2020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</a:t>
            </a:r>
            <a:r>
              <a:rPr b="1" lang="en-GB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Intervention Logic</a:t>
            </a:r>
            <a:r>
              <a:rPr b="1" lang="en-GB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3"/>
          <p:cNvSpPr/>
          <p:nvPr/>
        </p:nvSpPr>
        <p:spPr>
          <a:xfrm>
            <a:off x="2124000" y="981000"/>
            <a:ext cx="42483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Priority Axis 1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Footer Placeholder 4"/>
          <p:cNvSpPr/>
          <p:nvPr/>
        </p:nvSpPr>
        <p:spPr>
          <a:xfrm>
            <a:off x="1476360" y="6265800"/>
            <a:ext cx="612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ormer Yugoslav Republic of Macedonia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IPA Cross-Border Programme CCI Number 2007CB16IPO00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0" name="Object 6"/>
          <p:cNvGraphicFramePr/>
          <p:nvPr/>
        </p:nvGraphicFramePr>
        <p:xfrm>
          <a:off x="177840" y="1413000"/>
          <a:ext cx="8678880" cy="570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413000"/>
                    <a:ext cx="8678880" cy="57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Rectangle 2"/>
          <p:cNvSpPr/>
          <p:nvPr/>
        </p:nvSpPr>
        <p:spPr>
          <a:xfrm>
            <a:off x="108000" y="27468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Bulgaria-the former Yugoslav Republic of Macedonia IPA Cross-border Programme (2014-2020)</a:t>
            </a:r>
            <a:br>
              <a:rPr sz="1400"/>
            </a:b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Intervention Logic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[3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1"/>
          <p:cNvSpPr/>
          <p:nvPr/>
        </p:nvSpPr>
        <p:spPr>
          <a:xfrm>
            <a:off x="1116000" y="907920"/>
            <a:ext cx="6048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Calibri"/>
              </a:rPr>
              <a:t>Priority Axis 2  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Calibri"/>
              </a:rPr>
              <a:t>SUSTAINABLE TOU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Footer Placeholder 4"/>
          <p:cNvSpPr/>
          <p:nvPr/>
        </p:nvSpPr>
        <p:spPr>
          <a:xfrm>
            <a:off x="1476360" y="6265800"/>
            <a:ext cx="612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Serbia IPA Cross-Border Programme CCI Number 2007CB16IPO00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6" name="Object 5"/>
          <p:cNvGraphicFramePr/>
          <p:nvPr/>
        </p:nvGraphicFramePr>
        <p:xfrm>
          <a:off x="177840" y="1633680"/>
          <a:ext cx="8642160" cy="53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633680"/>
                    <a:ext cx="8642160" cy="53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Rectangle 2"/>
          <p:cNvSpPr/>
          <p:nvPr/>
        </p:nvSpPr>
        <p:spPr>
          <a:xfrm>
            <a:off x="108000" y="27468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Bulgaria-the former Yugoslav Republic of Macedonia IPA Cross-border Programme (2014-2020)</a:t>
            </a:r>
            <a:br>
              <a:rPr sz="1400"/>
            </a:b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Intervention Logic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[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1"/>
          <p:cNvSpPr/>
          <p:nvPr/>
        </p:nvSpPr>
        <p:spPr>
          <a:xfrm>
            <a:off x="1116000" y="907920"/>
            <a:ext cx="6048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Calibri"/>
              </a:rPr>
              <a:t>Priority Axis 2  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Calibri"/>
              </a:rPr>
              <a:t>SUSTAINABLE TOU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Footer Placeholder 4"/>
          <p:cNvSpPr/>
          <p:nvPr/>
        </p:nvSpPr>
        <p:spPr>
          <a:xfrm>
            <a:off x="1476360" y="6265800"/>
            <a:ext cx="612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ormer Yugoslav Republic of Macedonia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IPA Cross-Border Programme CCI Number 2007CB16IPO00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1" name="Object 3"/>
          <p:cNvGraphicFramePr/>
          <p:nvPr/>
        </p:nvGraphicFramePr>
        <p:xfrm>
          <a:off x="179280" y="1484280"/>
          <a:ext cx="8802720" cy="547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84280"/>
                    <a:ext cx="8802720" cy="54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Rectangle 2"/>
          <p:cNvSpPr/>
          <p:nvPr/>
        </p:nvSpPr>
        <p:spPr>
          <a:xfrm>
            <a:off x="108000" y="27468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Bulgaria-the former Yugoslav Republic of Macedonia IPA Cross-border Programme (2014-2020)</a:t>
            </a:r>
            <a:br>
              <a:rPr sz="1400"/>
            </a:b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Intervention Logic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[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1"/>
          <p:cNvSpPr/>
          <p:nvPr/>
        </p:nvSpPr>
        <p:spPr>
          <a:xfrm>
            <a:off x="1116000" y="907920"/>
            <a:ext cx="6048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Calibri"/>
              </a:rPr>
              <a:t>Priority Axis 2  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Calibri"/>
              </a:rPr>
              <a:t>SUSTAINABLE TOU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Bulgaria-the former Yugoslav Republic of Macedonia IPA Cross-border Programme (2014-2020)</a:t>
            </a:r>
            <a:br>
              <a:rPr sz="2000"/>
            </a:b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The Intervention Logic</a:t>
            </a: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[7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Footer Placeholder 4"/>
          <p:cNvSpPr/>
          <p:nvPr/>
        </p:nvSpPr>
        <p:spPr>
          <a:xfrm>
            <a:off x="1476360" y="6265800"/>
            <a:ext cx="612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ormer Yugoslav Republic of Macedonia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IPA Cross-Border Programme CCI Number 2007CB16IPO00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2"/>
          <p:cNvSpPr/>
          <p:nvPr/>
        </p:nvSpPr>
        <p:spPr>
          <a:xfrm>
            <a:off x="539640" y="981000"/>
            <a:ext cx="47530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Priority Axis 3 </a:t>
            </a:r>
            <a:r>
              <a:rPr b="1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COMPETI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9" name="Object 4"/>
          <p:cNvGraphicFramePr/>
          <p:nvPr/>
        </p:nvGraphicFramePr>
        <p:xfrm>
          <a:off x="104760" y="1552680"/>
          <a:ext cx="8906040" cy="518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760" y="1552680"/>
                    <a:ext cx="8906040" cy="51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lgaria-the former Yugoslav Republic of Macedonia IPA Cross-border Programme (2014-2020)</a:t>
            </a:r>
            <a:br>
              <a:rPr sz="2200"/>
            </a:br>
            <a:r>
              <a:rPr b="1" lang="en-GB" sz="3400" spc="-1" strike="noStrike">
                <a:solidFill>
                  <a:srgbClr val="ffffff"/>
                </a:solidFill>
                <a:latin typeface="Calibri"/>
              </a:rPr>
              <a:t>The Management Structur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Footer Placeholder 4"/>
          <p:cNvSpPr/>
          <p:nvPr/>
        </p:nvSpPr>
        <p:spPr>
          <a:xfrm>
            <a:off x="1476360" y="6265800"/>
            <a:ext cx="612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</a:t>
            </a: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he former Yugoslav Republic of Macedonia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IPA Cross-Border Programme CCI Number 2007CB16IPO00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3" name="Object 4"/>
          <p:cNvGraphicFramePr/>
          <p:nvPr/>
        </p:nvGraphicFramePr>
        <p:xfrm>
          <a:off x="276120" y="1523880"/>
          <a:ext cx="8639280" cy="498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120" y="1523880"/>
                    <a:ext cx="8639280" cy="498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lgaria-the former Yugoslav Republic of Macedonia IPA Cross-border Programme (2014-2020)</a:t>
            </a:r>
            <a:br>
              <a:rPr sz="2200"/>
            </a:br>
            <a:r>
              <a:rPr b="1" lang="en-GB" sz="3400" spc="-1" strike="noStrike">
                <a:solidFill>
                  <a:srgbClr val="ffffff"/>
                </a:solidFill>
                <a:latin typeface="Calibri"/>
              </a:rPr>
              <a:t>The Schedul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Footer Placeholder 4"/>
          <p:cNvSpPr/>
          <p:nvPr/>
        </p:nvSpPr>
        <p:spPr>
          <a:xfrm>
            <a:off x="1476360" y="6265800"/>
            <a:ext cx="612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ormer Yugoslav Republic of Macedonia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IPA Cross-Border Programme CCI Number 2007CB16IPO00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7" name=""/>
          <p:cNvGraphicFramePr/>
          <p:nvPr/>
        </p:nvGraphicFramePr>
        <p:xfrm>
          <a:off x="250920" y="1550880"/>
          <a:ext cx="8642160" cy="4500720"/>
        </p:xfrm>
        <a:graphic>
          <a:graphicData uri="http://schemas.openxmlformats.org/drawingml/2006/table">
            <a:tbl>
              <a:tblPr/>
              <a:tblGrid>
                <a:gridCol w="3313080"/>
                <a:gridCol w="5329080"/>
              </a:tblGrid>
              <a:tr h="384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63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rsement of the Programming document at national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0th August – 20th September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4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mission to EU for appro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up to 22nd September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63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otiation process and approval by 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2nd September – 31st December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63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ation and coordination of Mo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0th September 2014 – 30th January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ng of  Mo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February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63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Monitoring Committee mee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hree months after approval of the Programme by E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63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sional period for launching First Call for proposal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March - April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Footer Placeholder 4"/>
          <p:cNvSpPr/>
          <p:nvPr/>
        </p:nvSpPr>
        <p:spPr>
          <a:xfrm>
            <a:off x="1476360" y="6265800"/>
            <a:ext cx="612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ormer Yugoslav Republic of Macedonia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PA Cross-Border Programme CCI Number 2007CB16IPO00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5"/>
          <p:cNvSpPr/>
          <p:nvPr/>
        </p:nvSpPr>
        <p:spPr>
          <a:xfrm>
            <a:off x="4140360" y="1834200"/>
            <a:ext cx="48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 Rounded MT Bold"/>
                <a:ea typeface="Arial Unicode MS"/>
              </a:rPr>
              <a:t>THANK YOU FOR 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 Rounded MT Bold"/>
                <a:ea typeface="Arial Unicode MS"/>
              </a:rPr>
              <a:t>ATTEN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0" name="Object 1"/>
          <p:cNvGraphicFramePr/>
          <p:nvPr/>
        </p:nvGraphicFramePr>
        <p:xfrm>
          <a:off x="0" y="1557360"/>
          <a:ext cx="3995640" cy="30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3995640" cy="30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2" name="Rectangle 9"/>
          <p:cNvSpPr/>
          <p:nvPr/>
        </p:nvSpPr>
        <p:spPr>
          <a:xfrm>
            <a:off x="4140360" y="4179600"/>
            <a:ext cx="479412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5000"/>
              </a:lnSpc>
              <a:spcBef>
                <a:spcPts val="104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 Rounded MT Bold"/>
                <a:ea typeface="Arial Unicode MS"/>
              </a:rPr>
              <a:t>TA Programming T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spcBef>
                <a:spcPts val="612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 Rounded MT Bold"/>
                <a:ea typeface="Arial Unicode MS"/>
              </a:rPr>
              <a:t>Manfred KOJAN</a:t>
            </a:r>
            <a:br>
              <a:rPr sz="1400"/>
            </a:br>
            <a:r>
              <a:rPr b="0" lang="fi-FI" sz="1400" spc="-1" strike="noStrike">
                <a:solidFill>
                  <a:srgbClr val="000000"/>
                </a:solidFill>
                <a:latin typeface="Arial Rounded MT Bold"/>
                <a:ea typeface="Arial Unicode MS"/>
              </a:rPr>
              <a:t>Eleonora IVANOVA</a:t>
            </a:r>
            <a:br>
              <a:rPr sz="1400"/>
            </a:br>
            <a:r>
              <a:rPr b="0" lang="fi-FI" sz="1400" spc="-1" strike="noStrike">
                <a:solidFill>
                  <a:srgbClr val="000000"/>
                </a:solidFill>
                <a:latin typeface="Arial Rounded MT Bold"/>
                <a:ea typeface="Arial Unicode MS"/>
              </a:rPr>
              <a:t>Jasminka TASEVA JANKOV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spcBef>
                <a:spcPts val="612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Picture 2" descr="MC900439805[1]"/>
          <p:cNvPicPr/>
          <p:nvPr/>
        </p:nvPicPr>
        <p:blipFill>
          <a:blip r:embed="rId1"/>
          <a:stretch/>
        </p:blipFill>
        <p:spPr>
          <a:xfrm>
            <a:off x="306360" y="1201680"/>
            <a:ext cx="7777080" cy="5656320"/>
          </a:xfrm>
          <a:prstGeom prst="rect">
            <a:avLst/>
          </a:prstGeom>
          <a:ln w="0">
            <a:noFill/>
          </a:ln>
        </p:spPr>
      </p:pic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A Roadmap to Bulgaria-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he former Yugoslav Republic of Macedonia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 IPA Cross-border Programme (2014-20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Footer Placeholder 4"/>
          <p:cNvSpPr/>
          <p:nvPr/>
        </p:nvSpPr>
        <p:spPr>
          <a:xfrm>
            <a:off x="1476360" y="6265800"/>
            <a:ext cx="612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ormer Yugoslav Republic of Macedonia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PA Cross-Border Programme CCI Number 2007CB16IPO00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Group 37"/>
          <p:cNvGrpSpPr/>
          <p:nvPr/>
        </p:nvGrpSpPr>
        <p:grpSpPr>
          <a:xfrm>
            <a:off x="179280" y="1773360"/>
            <a:ext cx="8964720" cy="4319640"/>
            <a:chOff x="179280" y="1773360"/>
            <a:chExt cx="8964720" cy="4319640"/>
          </a:xfrm>
        </p:grpSpPr>
        <p:pic>
          <p:nvPicPr>
            <p:cNvPr id="715" name="Picture 5" descr="9747350_S_1"/>
            <p:cNvPicPr/>
            <p:nvPr/>
          </p:nvPicPr>
          <p:blipFill>
            <a:blip r:embed="rId2"/>
            <a:stretch/>
          </p:blipFill>
          <p:spPr>
            <a:xfrm flipH="1">
              <a:off x="395280" y="3033720"/>
              <a:ext cx="194472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Oval 7"/>
            <p:cNvSpPr/>
            <p:nvPr/>
          </p:nvSpPr>
          <p:spPr>
            <a:xfrm>
              <a:off x="2843280" y="2492280"/>
              <a:ext cx="288720" cy="21600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8"/>
            <p:cNvSpPr/>
            <p:nvPr/>
          </p:nvSpPr>
          <p:spPr>
            <a:xfrm>
              <a:off x="4284720" y="2924280"/>
              <a:ext cx="288720" cy="21564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9"/>
            <p:cNvSpPr/>
            <p:nvPr/>
          </p:nvSpPr>
          <p:spPr>
            <a:xfrm>
              <a:off x="5364000" y="3573360"/>
              <a:ext cx="289080" cy="21600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10"/>
            <p:cNvSpPr/>
            <p:nvPr/>
          </p:nvSpPr>
          <p:spPr>
            <a:xfrm>
              <a:off x="5867280" y="4365720"/>
              <a:ext cx="289080" cy="215640"/>
            </a:xfrm>
            <a:prstGeom prst="ellipse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1"/>
            <p:cNvSpPr/>
            <p:nvPr/>
          </p:nvSpPr>
          <p:spPr>
            <a:xfrm>
              <a:off x="179280" y="1773360"/>
              <a:ext cx="25210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4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Establishing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a Joint Working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2"/>
            <p:cNvSpPr/>
            <p:nvPr/>
          </p:nvSpPr>
          <p:spPr>
            <a:xfrm>
              <a:off x="3203640" y="1989000"/>
              <a:ext cx="38163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4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Territorial analysi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(challenges, needs, potential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14"/>
            <p:cNvSpPr/>
            <p:nvPr/>
          </p:nvSpPr>
          <p:spPr>
            <a:xfrm>
              <a:off x="1187280" y="3068640"/>
              <a:ext cx="29880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4000"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trategic choic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(thematic concentration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15"/>
            <p:cNvSpPr/>
            <p:nvPr/>
          </p:nvSpPr>
          <p:spPr>
            <a:xfrm>
              <a:off x="5724360" y="2924280"/>
              <a:ext cx="34196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gramming pro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drafting the Programme &lt;-&gt; Ex-ante/SEA</a:t>
              </a:r>
              <a:r>
                <a:rPr b="0" lang="en-GB" sz="1200" spc="-1" strike="noStrike">
                  <a:solidFill>
                    <a:srgbClr val="000099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16"/>
            <p:cNvSpPr/>
            <p:nvPr/>
          </p:nvSpPr>
          <p:spPr>
            <a:xfrm>
              <a:off x="1979640" y="4437000"/>
              <a:ext cx="30956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Programme submiss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5" name="Picture 17" descr="MC900389774[1]"/>
            <p:cNvPicPr/>
            <p:nvPr/>
          </p:nvPicPr>
          <p:blipFill>
            <a:blip r:embed="rId3"/>
            <a:stretch/>
          </p:blipFill>
          <p:spPr>
            <a:xfrm>
              <a:off x="6732720" y="4768920"/>
              <a:ext cx="1584360" cy="12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Rectangle 18"/>
            <p:cNvSpPr/>
            <p:nvPr/>
          </p:nvSpPr>
          <p:spPr>
            <a:xfrm>
              <a:off x="3637080" y="5587920"/>
              <a:ext cx="30956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4000"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rogramme approv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aunch Call for Proposa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7" name="Picture 19" descr="MC900361734[1]"/>
            <p:cNvPicPr/>
            <p:nvPr/>
          </p:nvPicPr>
          <p:blipFill>
            <a:blip r:embed="rId4"/>
            <a:stretch/>
          </p:blipFill>
          <p:spPr>
            <a:xfrm>
              <a:off x="8028000" y="2349360"/>
              <a:ext cx="917640" cy="57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20" descr="MC900441322[1]"/>
            <p:cNvPicPr/>
            <p:nvPr/>
          </p:nvPicPr>
          <p:blipFill>
            <a:blip r:embed="rId5"/>
            <a:stretch/>
          </p:blipFill>
          <p:spPr>
            <a:xfrm>
              <a:off x="4708440" y="4797360"/>
              <a:ext cx="800280" cy="800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lgaria-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former Yugoslav Republic of Macedonia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IPA Cross-border Programme (2014-2020)</a:t>
            </a:r>
            <a:br>
              <a:rPr sz="3000"/>
            </a:b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Territorial analysis of the border reg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Footer Placeholder 4"/>
          <p:cNvSpPr/>
          <p:nvPr/>
        </p:nvSpPr>
        <p:spPr>
          <a:xfrm>
            <a:off x="1476360" y="6265800"/>
            <a:ext cx="612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ormer Yugoslav Republic of Macedonia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PA Cross-Border Programme CCI Number 2007CB16IPO00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Group 4"/>
          <p:cNvGrpSpPr/>
          <p:nvPr/>
        </p:nvGrpSpPr>
        <p:grpSpPr>
          <a:xfrm>
            <a:off x="969840" y="1557360"/>
            <a:ext cx="7334640" cy="4608360"/>
            <a:chOff x="969840" y="1557360"/>
            <a:chExt cx="7334640" cy="4608360"/>
          </a:xfrm>
        </p:grpSpPr>
        <p:sp>
          <p:nvSpPr>
            <p:cNvPr id="732" name="Rectangle 5"/>
            <p:cNvSpPr/>
            <p:nvPr/>
          </p:nvSpPr>
          <p:spPr>
            <a:xfrm>
              <a:off x="1908000" y="1557360"/>
              <a:ext cx="2508480" cy="67788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he </a:t>
              </a:r>
              <a:r>
                <a:rPr b="1" lang="en-GB" sz="1600" spc="-1" strike="noStrike">
                  <a:solidFill>
                    <a:srgbClr val="ffffff"/>
                  </a:solidFill>
                  <a:latin typeface="Tahoma"/>
                </a:rPr>
                <a:t>challenges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f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BG-MK cross-border are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6"/>
            <p:cNvSpPr/>
            <p:nvPr/>
          </p:nvSpPr>
          <p:spPr>
            <a:xfrm>
              <a:off x="1908000" y="2637000"/>
              <a:ext cx="2508480" cy="67788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he </a:t>
              </a:r>
              <a:r>
                <a:rPr b="1" lang="en-GB" sz="1600" spc="-1" strike="noStrike">
                  <a:solidFill>
                    <a:srgbClr val="ffffff"/>
                  </a:solidFill>
                  <a:latin typeface="Tahoma"/>
                </a:rPr>
                <a:t>needs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o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BG-MK cross-border are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7"/>
            <p:cNvSpPr/>
            <p:nvPr/>
          </p:nvSpPr>
          <p:spPr>
            <a:xfrm>
              <a:off x="1908000" y="3716280"/>
              <a:ext cx="2508480" cy="67788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he </a:t>
              </a:r>
              <a:r>
                <a:rPr b="1" lang="en-GB" sz="1600" spc="-1" strike="noStrike">
                  <a:solidFill>
                    <a:srgbClr val="ffffff"/>
                  </a:solidFill>
                  <a:latin typeface="Tahoma"/>
                </a:rPr>
                <a:t>potentials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of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BG-MK cross-border are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8"/>
            <p:cNvSpPr/>
            <p:nvPr/>
          </p:nvSpPr>
          <p:spPr>
            <a:xfrm>
              <a:off x="1908000" y="4797360"/>
              <a:ext cx="2508480" cy="53352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ahoma"/>
                </a:rPr>
                <a:t>CONCLU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9"/>
            <p:cNvSpPr/>
            <p:nvPr/>
          </p:nvSpPr>
          <p:spPr>
            <a:xfrm>
              <a:off x="969840" y="5734080"/>
              <a:ext cx="4465800" cy="43164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Scenarios and proposal for common provision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AutoShape 10"/>
            <p:cNvSpPr/>
            <p:nvPr/>
          </p:nvSpPr>
          <p:spPr>
            <a:xfrm>
              <a:off x="5932440" y="1557360"/>
              <a:ext cx="2098800" cy="4539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ahoma"/>
                </a:rPr>
                <a:t>Statistical analysi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AutoShape 11"/>
            <p:cNvSpPr/>
            <p:nvPr/>
          </p:nvSpPr>
          <p:spPr>
            <a:xfrm>
              <a:off x="5932440" y="2179800"/>
              <a:ext cx="2098800" cy="4521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ahoma"/>
                </a:rPr>
                <a:t>Document analysi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AutoShape 12"/>
            <p:cNvSpPr/>
            <p:nvPr/>
          </p:nvSpPr>
          <p:spPr>
            <a:xfrm>
              <a:off x="5932440" y="2800440"/>
              <a:ext cx="2098800" cy="4539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ahoma"/>
                </a:rPr>
                <a:t>Needs analysis gri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AutoShape 13"/>
            <p:cNvSpPr/>
            <p:nvPr/>
          </p:nvSpPr>
          <p:spPr>
            <a:xfrm>
              <a:off x="5932440" y="3422520"/>
              <a:ext cx="2098800" cy="454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ahoma"/>
                </a:rPr>
                <a:t>Synergy mapp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AutoShape 14"/>
            <p:cNvSpPr/>
            <p:nvPr/>
          </p:nvSpPr>
          <p:spPr>
            <a:xfrm>
              <a:off x="5932440" y="4044960"/>
              <a:ext cx="2098800" cy="4525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ahoma"/>
                </a:rPr>
                <a:t>Online surve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AutoShape 15"/>
            <p:cNvSpPr/>
            <p:nvPr/>
          </p:nvSpPr>
          <p:spPr>
            <a:xfrm>
              <a:off x="5932440" y="5013360"/>
              <a:ext cx="2098800" cy="452520"/>
            </a:xfrm>
            <a:prstGeom prst="roundRect">
              <a:avLst>
                <a:gd name="adj" fmla="val 16667"/>
              </a:avLst>
            </a:prstGeom>
            <a:solidFill>
              <a:srgbClr val="e7e7ff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99"/>
                  </a:solidFill>
                  <a:latin typeface="Tahoma"/>
                </a:rPr>
                <a:t>SWOT analys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AutoShape 16"/>
            <p:cNvSpPr/>
            <p:nvPr/>
          </p:nvSpPr>
          <p:spPr>
            <a:xfrm>
              <a:off x="5932440" y="5661000"/>
              <a:ext cx="2098800" cy="453960"/>
            </a:xfrm>
            <a:prstGeom prst="roundRect">
              <a:avLst>
                <a:gd name="adj" fmla="val 16667"/>
              </a:avLst>
            </a:prstGeom>
            <a:solidFill>
              <a:srgbClr val="e7e7ff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Tahoma"/>
                </a:rPr>
                <a:t>Regional Consultative Forum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4" name="AutoShape 17"/>
            <p:cNvCxnSpPr/>
            <p:nvPr/>
          </p:nvCxnSpPr>
          <p:spPr>
            <a:xfrm>
              <a:off x="8047080" y="2292480"/>
              <a:ext cx="2160" cy="621000"/>
            </a:xfrm>
            <a:prstGeom prst="bentConnector3">
              <a:avLst>
                <a:gd name="adj1" fmla="val 143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5" name="AutoShape 18"/>
            <p:cNvCxnSpPr/>
            <p:nvPr/>
          </p:nvCxnSpPr>
          <p:spPr>
            <a:xfrm>
              <a:off x="8047080" y="3082680"/>
              <a:ext cx="2160" cy="624600"/>
            </a:xfrm>
            <a:prstGeom prst="bentConnector3">
              <a:avLst>
                <a:gd name="adj1" fmla="val 13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6" name="AutoShape 19"/>
            <p:cNvCxnSpPr>
              <a:stCxn id="742" idx="1"/>
              <a:endCxn id="743" idx="1"/>
            </p:cNvCxnSpPr>
            <p:nvPr/>
          </p:nvCxnSpPr>
          <p:spPr>
            <a:xfrm flipH="1" flipV="1" rot="10800000">
              <a:off x="5912280" y="5240160"/>
              <a:ext cx="2520" cy="648360"/>
            </a:xfrm>
            <a:prstGeom prst="bentConnector3">
              <a:avLst>
                <a:gd name="adj1" fmla="val -132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7" name="AutoShape 20"/>
            <p:cNvCxnSpPr>
              <a:stCxn id="743" idx="3"/>
              <a:endCxn id="742" idx="3"/>
            </p:cNvCxnSpPr>
            <p:nvPr/>
          </p:nvCxnSpPr>
          <p:spPr>
            <a:xfrm flipV="1">
              <a:off x="8050320" y="5240160"/>
              <a:ext cx="2160" cy="648360"/>
            </a:xfrm>
            <a:prstGeom prst="bentConnector3">
              <a:avLst>
                <a:gd name="adj1" fmla="val 132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8" name="AutoShape 21"/>
            <p:cNvSpPr/>
            <p:nvPr/>
          </p:nvSpPr>
          <p:spPr>
            <a:xfrm rot="5400000">
              <a:off x="3018600" y="2183400"/>
              <a:ext cx="307800" cy="49392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791" y="0"/>
                  </a:lnTo>
                  <a:lnTo>
                    <a:pt x="21600" y="10800"/>
                  </a:lnTo>
                  <a:lnTo>
                    <a:pt x="7791" y="21600"/>
                  </a:lnTo>
                  <a:lnTo>
                    <a:pt x="0" y="21600"/>
                  </a:lnTo>
                  <a:lnTo>
                    <a:pt x="13809" y="10800"/>
                  </a:lnTo>
                  <a:close/>
                </a:path>
              </a:pathLst>
            </a:custGeom>
            <a:solidFill>
              <a:srgbClr val="0099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AutoShape 22"/>
            <p:cNvSpPr/>
            <p:nvPr/>
          </p:nvSpPr>
          <p:spPr>
            <a:xfrm rot="5400000">
              <a:off x="3018600" y="3264480"/>
              <a:ext cx="307800" cy="49392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791" y="0"/>
                  </a:lnTo>
                  <a:lnTo>
                    <a:pt x="21600" y="10800"/>
                  </a:lnTo>
                  <a:lnTo>
                    <a:pt x="7791" y="21600"/>
                  </a:lnTo>
                  <a:lnTo>
                    <a:pt x="0" y="21600"/>
                  </a:lnTo>
                  <a:lnTo>
                    <a:pt x="13809" y="10800"/>
                  </a:lnTo>
                  <a:close/>
                </a:path>
              </a:pathLst>
            </a:custGeom>
            <a:solidFill>
              <a:srgbClr val="0099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AutoShape 23"/>
            <p:cNvSpPr/>
            <p:nvPr/>
          </p:nvSpPr>
          <p:spPr>
            <a:xfrm rot="5400000">
              <a:off x="3008520" y="4344120"/>
              <a:ext cx="308160" cy="49356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791" y="0"/>
                  </a:lnTo>
                  <a:lnTo>
                    <a:pt x="21600" y="10800"/>
                  </a:lnTo>
                  <a:lnTo>
                    <a:pt x="7791" y="21600"/>
                  </a:lnTo>
                  <a:lnTo>
                    <a:pt x="0" y="21600"/>
                  </a:lnTo>
                  <a:lnTo>
                    <a:pt x="13809" y="10800"/>
                  </a:lnTo>
                  <a:close/>
                </a:path>
              </a:pathLst>
            </a:custGeom>
            <a:solidFill>
              <a:srgbClr val="0099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AutoShape 24"/>
            <p:cNvSpPr/>
            <p:nvPr/>
          </p:nvSpPr>
          <p:spPr>
            <a:xfrm rot="5400000">
              <a:off x="3008880" y="5280840"/>
              <a:ext cx="307800" cy="49356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791" y="0"/>
                  </a:lnTo>
                  <a:lnTo>
                    <a:pt x="21600" y="10800"/>
                  </a:lnTo>
                  <a:lnTo>
                    <a:pt x="7791" y="21600"/>
                  </a:lnTo>
                  <a:lnTo>
                    <a:pt x="0" y="21600"/>
                  </a:lnTo>
                  <a:lnTo>
                    <a:pt x="13809" y="10800"/>
                  </a:lnTo>
                  <a:close/>
                </a:path>
              </a:pathLst>
            </a:custGeom>
            <a:solidFill>
              <a:srgbClr val="0099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2" name="AutoShape 25"/>
            <p:cNvCxnSpPr>
              <a:stCxn id="742" idx="0"/>
              <a:endCxn id="735" idx="3"/>
            </p:cNvCxnSpPr>
            <p:nvPr/>
          </p:nvCxnSpPr>
          <p:spPr>
            <a:xfrm rot="5400000">
              <a:off x="5673240" y="3755880"/>
              <a:ext cx="70200" cy="2547000"/>
            </a:xfrm>
            <a:prstGeom prst="bentConnector4">
              <a:avLst>
                <a:gd name="adj1" fmla="val -301546"/>
                <a:gd name="adj2" fmla="val 71006"/>
              </a:avLst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</p:cxnSp>
        <p:sp>
          <p:nvSpPr>
            <p:cNvPr id="753" name="AutoShape 26"/>
            <p:cNvSpPr/>
            <p:nvPr/>
          </p:nvSpPr>
          <p:spPr>
            <a:xfrm>
              <a:off x="4643280" y="1773360"/>
              <a:ext cx="574920" cy="360360"/>
            </a:xfrm>
            <a:prstGeom prst="leftArrow">
              <a:avLst>
                <a:gd name="adj1" fmla="val 50000"/>
                <a:gd name="adj2" fmla="val 39885"/>
              </a:avLst>
            </a:prstGeom>
            <a:noFill/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AutoShape 27"/>
            <p:cNvSpPr/>
            <p:nvPr/>
          </p:nvSpPr>
          <p:spPr>
            <a:xfrm>
              <a:off x="4643280" y="2852640"/>
              <a:ext cx="574920" cy="360360"/>
            </a:xfrm>
            <a:prstGeom prst="leftArrow">
              <a:avLst>
                <a:gd name="adj1" fmla="val 50000"/>
                <a:gd name="adj2" fmla="val 39885"/>
              </a:avLst>
            </a:prstGeom>
            <a:noFill/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AutoShape 28"/>
            <p:cNvSpPr/>
            <p:nvPr/>
          </p:nvSpPr>
          <p:spPr>
            <a:xfrm>
              <a:off x="4643280" y="3860640"/>
              <a:ext cx="574920" cy="360360"/>
            </a:xfrm>
            <a:prstGeom prst="leftArrow">
              <a:avLst>
                <a:gd name="adj1" fmla="val 50000"/>
                <a:gd name="adj2" fmla="val 39885"/>
              </a:avLst>
            </a:prstGeom>
            <a:noFill/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AutoShape 29"/>
            <p:cNvSpPr/>
            <p:nvPr/>
          </p:nvSpPr>
          <p:spPr>
            <a:xfrm>
              <a:off x="5508720" y="1773360"/>
              <a:ext cx="358560" cy="2592360"/>
            </a:xfrm>
            <a:custGeom>
              <a:avLst/>
              <a:gdLst>
                <a:gd name="textAreaLeft" fmla="*/ 228960 w 358560"/>
                <a:gd name="textAreaRight" fmla="*/ 358560 w 358560"/>
                <a:gd name="textAreaTop" fmla="*/ 67320 h 2592360"/>
                <a:gd name="textAreaBottom" fmla="*/ 2525040 h 25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lgaria-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former Yugoslav Republic of Macedonia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IPA Cross-border Programme (2014-2020)</a:t>
            </a:r>
            <a:br>
              <a:rPr sz="2600"/>
            </a:b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Strategic choices (thematic concentration)</a:t>
            </a:r>
            <a:r>
              <a:rPr b="1" lang="en-GB" sz="3600" spc="-1" strike="noStrike">
                <a:solidFill>
                  <a:srgbClr val="ffffff"/>
                </a:solidFill>
                <a:latin typeface="Calibri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Footer Placeholder 4"/>
          <p:cNvSpPr/>
          <p:nvPr/>
        </p:nvSpPr>
        <p:spPr>
          <a:xfrm>
            <a:off x="1476360" y="6265800"/>
            <a:ext cx="612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ormer Yugoslav Republic of Macedonia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PA Cross-Border Programme CCI Number 2007CB16IPO00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5000"/>
              </a:lnSpc>
              <a:spcBef>
                <a:spcPts val="1250"/>
              </a:spcBef>
              <a:spcAft>
                <a:spcPts val="7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Strategic orientation of the programme – </a:t>
            </a: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max. 4 thematic prioriti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250"/>
              </a:spcBef>
              <a:spcAft>
                <a:spcPts val="77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ssessment grid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– an instrument for taking a decision (by the Joint Working Group)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5000"/>
              </a:lnSpc>
              <a:spcBef>
                <a:spcPts val="1001"/>
              </a:spcBef>
              <a:spcAft>
                <a:spcPts val="624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Lessons learned from the current programme 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5000"/>
              </a:lnSpc>
              <a:spcBef>
                <a:spcPts val="1001"/>
              </a:spcBef>
              <a:spcAft>
                <a:spcPts val="624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Territorial (situation) and SWO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5000"/>
              </a:lnSpc>
              <a:spcBef>
                <a:spcPts val="1001"/>
              </a:spcBef>
              <a:spcAft>
                <a:spcPts val="624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Regional Consul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5000"/>
              </a:lnSpc>
              <a:spcBef>
                <a:spcPts val="1001"/>
              </a:spcBef>
              <a:spcAft>
                <a:spcPts val="624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ross-border added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1001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lgaria-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former Yugoslav Republic of Macedonia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IPA Cross-border Programme (2014-2020)</a:t>
            </a:r>
            <a:br>
              <a:rPr sz="4400"/>
            </a:b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The Programme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Footer Placeholder 4"/>
          <p:cNvSpPr/>
          <p:nvPr/>
        </p:nvSpPr>
        <p:spPr>
          <a:xfrm>
            <a:off x="1476360" y="6265800"/>
            <a:ext cx="612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ormer Yugoslav Republic of Macedonia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IPA Cross-Border Programme CCI Number 2007CB16IPO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AutoShape 5"/>
          <p:cNvSpPr/>
          <p:nvPr/>
        </p:nvSpPr>
        <p:spPr>
          <a:xfrm>
            <a:off x="5580000" y="1557360"/>
            <a:ext cx="3492720" cy="936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8 087 km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utoShape 6"/>
          <p:cNvSpPr/>
          <p:nvPr/>
        </p:nvSpPr>
        <p:spPr>
          <a:xfrm>
            <a:off x="5580000" y="2637000"/>
            <a:ext cx="3492720" cy="9363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80 375 inhabit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AutoShape 7"/>
          <p:cNvSpPr/>
          <p:nvPr/>
        </p:nvSpPr>
        <p:spPr>
          <a:xfrm>
            <a:off x="5435640" y="3807000"/>
            <a:ext cx="3635280" cy="1009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BG si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 districts: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lagoevgrad, Kyustend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9"/>
          <p:cNvSpPr/>
          <p:nvPr/>
        </p:nvSpPr>
        <p:spPr>
          <a:xfrm>
            <a:off x="3924360" y="4365720"/>
            <a:ext cx="1152360" cy="576000"/>
          </a:xfrm>
          <a:prstGeom prst="roundRect">
            <a:avLst>
              <a:gd name="adj" fmla="val 16667"/>
            </a:avLst>
          </a:prstGeom>
          <a:solidFill>
            <a:srgbClr val="e3e07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BULG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12"/>
          <p:cNvSpPr/>
          <p:nvPr/>
        </p:nvSpPr>
        <p:spPr>
          <a:xfrm>
            <a:off x="5435640" y="4910040"/>
            <a:ext cx="3635280" cy="104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MK sid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3 regions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th-East, East and South-East planning reg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AutoShape 13"/>
          <p:cNvSpPr/>
          <p:nvPr/>
        </p:nvSpPr>
        <p:spPr>
          <a:xfrm>
            <a:off x="3924360" y="5229360"/>
            <a:ext cx="1152360" cy="576000"/>
          </a:xfrm>
          <a:prstGeom prst="roundRect">
            <a:avLst>
              <a:gd name="adj" fmla="val 16667"/>
            </a:avLst>
          </a:prstGeom>
          <a:solidFill>
            <a:srgbClr val="a4e6a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erb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10" descr="BG-MK_Map_CBC-Region_small"/>
          <p:cNvPicPr/>
          <p:nvPr/>
        </p:nvPicPr>
        <p:blipFill>
          <a:blip r:embed="rId1"/>
          <a:srcRect l="0" t="0" r="22613" b="0"/>
          <a:stretch/>
        </p:blipFill>
        <p:spPr>
          <a:xfrm>
            <a:off x="108000" y="1663560"/>
            <a:ext cx="52182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lgaria-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former Yugoslav Republic of Macedonia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PA Cross-border Programme (2014-2020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)</a:t>
            </a:r>
            <a:br>
              <a:rPr sz="2600"/>
            </a:br>
            <a:r>
              <a:rPr b="1" lang="en-GB" sz="3400" spc="-1" strike="noStrike">
                <a:solidFill>
                  <a:srgbClr val="ffffff"/>
                </a:solidFill>
                <a:latin typeface="Calibri"/>
              </a:rPr>
              <a:t>Development objectiv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Footer Placeholder 4"/>
          <p:cNvSpPr/>
          <p:nvPr/>
        </p:nvSpPr>
        <p:spPr>
          <a:xfrm>
            <a:off x="1476360" y="6265800"/>
            <a:ext cx="612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ormer Yugoslav Republic of Macedonia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IPA Cross-Border Programme CCI Number 2007CB16IPO00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5000"/>
              </a:lnSpc>
              <a:spcBef>
                <a:spcPts val="11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overall objective of the border region development in line with EU2020 perspectiv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5000"/>
              </a:lnSpc>
              <a:spcBef>
                <a:spcPts val="14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o intensify cross-border cooperation between the people and institutions of the region in order to jointly address common challenges and exploit untapped potential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79280" y="727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lgaria-the former Yugoslav Republic of Macedonia IPA Cross-border Programme (2014-2020)</a:t>
            </a:r>
            <a:br>
              <a:rPr sz="1800"/>
            </a:b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Strategic framework</a:t>
            </a:r>
            <a:r>
              <a:rPr b="1" lang="en-GB" sz="3600" spc="-1" strike="noStrike">
                <a:solidFill>
                  <a:srgbClr val="ffffff"/>
                </a:solidFill>
                <a:latin typeface="Calibri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Footer Placeholder 4"/>
          <p:cNvSpPr/>
          <p:nvPr/>
        </p:nvSpPr>
        <p:spPr>
          <a:xfrm>
            <a:off x="1476360" y="6265800"/>
            <a:ext cx="612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ormer Yugoslav Republic of Macedonia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IPA Cross-Border Programme CCI Number 2007CB16IPO00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Picture 5" descr=""/>
          <p:cNvPicPr/>
          <p:nvPr/>
        </p:nvPicPr>
        <p:blipFill>
          <a:blip r:embed="rId1"/>
          <a:stretch/>
        </p:blipFill>
        <p:spPr>
          <a:xfrm>
            <a:off x="390600" y="1052640"/>
            <a:ext cx="813744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79280" y="727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lgaria-the former Yugoslav Republic of Macedonia IPA Cross-border Programme (2014-2020)</a:t>
            </a:r>
            <a:br>
              <a:rPr sz="1800"/>
            </a:b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Priorities &amp;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Footer Placeholder 4"/>
          <p:cNvSpPr/>
          <p:nvPr/>
        </p:nvSpPr>
        <p:spPr>
          <a:xfrm>
            <a:off x="1476360" y="6265800"/>
            <a:ext cx="612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ormer Yugoslav Republic of Macedonia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IPA Cross-Border Programme CCI Number 2007CB16IPO00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395280" y="1428840"/>
          <a:ext cx="8209080" cy="4773600"/>
        </p:xfrm>
        <a:graphic>
          <a:graphicData uri="http://schemas.openxmlformats.org/drawingml/2006/table">
            <a:tbl>
              <a:tblPr/>
              <a:tblGrid>
                <a:gridCol w="1008000"/>
                <a:gridCol w="2511360"/>
                <a:gridCol w="3754440"/>
                <a:gridCol w="935280"/>
              </a:tblGrid>
              <a:tr h="409320">
                <a:tc>
                  <a:txBody>
                    <a:bodyPr lIns="26640" rIns="2664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ty ax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6640" rIns="2664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atic prior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6640" rIns="2664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 Objectiv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6640" rIns="2664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fun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63680">
                <a:tc rowSpan="2">
                  <a:txBody>
                    <a:bodyPr lIns="26640" rIns="2664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 1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ron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26640" rIns="2664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ting the environment, promoting climate change adaptation and mitigation, risk prevention and 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741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 1.1 Environmental protection and sustainable use of the common natural resources of  the CBC 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26640" rIns="2664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11.5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640" rIns="2664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741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 1.2 Risk prevention and mitigation the consequences of natural and manmade hazards and disasters in the CBC reg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 rowSpan="3">
                  <a:txBody>
                    <a:bodyPr lIns="26640" rIns="2664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 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uri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rowSpan="3">
                  <a:txBody>
                    <a:bodyPr lIns="26640" rIns="2664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uraging tourism and cultural and natural herit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741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 2.1: Enhancing the tourism potential of the region through better preservation and sustainable utilization of natural and cultural herit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6640" rIns="2664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84.6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640" rIns="2664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741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 2.2: Raising  the competitiveness of the CBC region’s tourist off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640" rIns="2664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741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 2.3: Promoting cooperation among regional actors in the area of sustainable touri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840">
                <a:tc>
                  <a:txBody>
                    <a:bodyPr lIns="26640" rIns="2664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 3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itive-n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6640" rIns="2664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hancing competitiveness, business environment and the development of small and medium-sized enterprises, trade and inves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741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 3.1: Improving the competitiveness of regional busines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19.2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26640" rIns="2664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 4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Assist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6640" rIns="2664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Assist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741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 4.1: assuring effective Programme 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46.1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 gridSpan="3">
                  <a:txBody>
                    <a:bodyPr lIns="26640" rIns="2664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741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640" rIns="26640" tIns="0" bIns="0" anchor="ctr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461.6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Bulgaria-the former Yugoslav Republic of Macedonia IPA Cross-border Programme (2014-2020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               </a:t>
            </a: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The Intervention Logic</a:t>
            </a: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Footer Placeholder 4"/>
          <p:cNvSpPr/>
          <p:nvPr/>
        </p:nvSpPr>
        <p:spPr>
          <a:xfrm>
            <a:off x="1476360" y="6265800"/>
            <a:ext cx="612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event is co- financed by the European Union through Bulgaria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ormer Yugoslav Republic of Macedonia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IPA Cross-Border Programme CCI Number 2007CB16IPO00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3"/>
          <p:cNvSpPr/>
          <p:nvPr/>
        </p:nvSpPr>
        <p:spPr>
          <a:xfrm>
            <a:off x="2124000" y="981000"/>
            <a:ext cx="42483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Priority Axis 1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1" name="Object 5"/>
          <p:cNvGraphicFramePr/>
          <p:nvPr/>
        </p:nvGraphicFramePr>
        <p:xfrm>
          <a:off x="485640" y="1542960"/>
          <a:ext cx="840132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42960"/>
                    <a:ext cx="840132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10:40:43Z</dcterms:created>
  <dc:creator>albena</dc:creator>
  <dc:description/>
  <dc:language>en-US</dc:language>
  <cp:lastModifiedBy>Tania Dimitrova</cp:lastModifiedBy>
  <dcterms:modified xsi:type="dcterms:W3CDTF">2014-08-18T11:59:21Z</dcterms:modified>
  <cp:revision>107</cp:revision>
  <dc:subject/>
  <dc:title>Slide 1</dc:title>
</cp:coreProperties>
</file>