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1.wmf" ContentType="image/x-wmf"/>
  <Override PartName="/ppt/media/image13.png" ContentType="image/png"/>
  <Override PartName="/ppt/media/image8.png" ContentType="image/png"/>
  <Override PartName="/ppt/media/image16.wmf" ContentType="image/x-wmf"/>
  <Override PartName="/ppt/media/image6.jpeg" ContentType="image/jpeg"/>
  <Override PartName="/ppt/media/image5.wmf" ContentType="image/x-wmf"/>
  <Override PartName="/ppt/media/image22.wmf" ContentType="image/x-wmf"/>
  <Override PartName="/ppt/media/image7.jpeg" ContentType="image/jpeg"/>
  <Override PartName="/ppt/media/image21.wmf" ContentType="image/x-wmf"/>
  <Override PartName="/ppt/media/image19.wmf" ContentType="image/x-wmf"/>
  <Override PartName="/ppt/media/image9.jpeg" ContentType="image/jpeg"/>
  <Override PartName="/ppt/media/image10.wmf" ContentType="image/x-wmf"/>
  <Override PartName="/ppt/media/image4.jpeg" ContentType="image/jpeg"/>
  <Override PartName="/ppt/media/image2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3.jpeg" ContentType="image/jpeg"/>
  <Override PartName="/ppt/media/image17.wmf" ContentType="image/x-wmf"/>
  <Override PartName="/ppt/media/image15.wmf" ContentType="image/x-wmf"/>
  <Override PartName="/ppt/media/image14.png" ContentType="image/png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E3C2-545C-42F2-A6BA-A2282E1A7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8302-EC7F-4FAB-8D78-801A871B7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514DA2-8D7A-49DF-AC62-92334BFB7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D540E8-6BA1-4DFF-8FC7-6C001DC2E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F12E0C-320A-4508-82DD-E0D55696E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376257-5B16-4B4D-B6BA-7D2E5BF73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002F42-127F-49EC-B939-0420D687C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1FF2FA-B858-4ADB-8ABE-31600A6A6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38F4BA-4240-4773-BB16-DEFFC6C83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F92B33-B53E-45C8-9767-AB20D9777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38217C-CC34-4AD4-9849-76D93A01C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D05FA6-BB96-4B10-B7E0-12AEC4788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560E-2B8D-4249-8783-51756F5D8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DA1578-9952-47F4-B2F6-3FF94DAF3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734C03-0389-40ED-B2E6-D2DCAC791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78FF18-3BCF-49E6-AD5F-095DD357A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FB179C-55B8-489D-A828-E64061522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194F5D-409E-402E-BD67-00ED15172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8FC647-9325-4DC0-82EB-0578FB7CD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E9AB74-F182-4DA9-873E-64131DF1F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396003-5409-4DA4-83BC-1806BD9E5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1E901C-9A2C-474A-BEDA-CA1A75D80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AB1705-3215-4FE0-A86C-F3784A795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779E-C8B4-4B60-91DF-FF8B40EF1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E94BB1-3D49-4825-BEBC-083E82E10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BE43F1A-8B17-4086-BFF4-670758761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E0BA0F2-96AB-4923-A8DA-83B55A5F9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F061F80-E7FB-4EA6-B67D-4965DFA58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7FB5A3E-B334-4469-9B97-EB285F861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DED65CC-6906-4ABB-AB74-0967B0B73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8371AC1-74E9-4FD6-AE04-E86579AB4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DE4B178-EE34-423C-BD97-978AA7144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D3934F0-AA0A-463C-839C-5C1314D76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E30E33B-9AA8-4B37-B4C5-F15F35855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3B936F-825A-4BDE-952C-468F42F905D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3F2B42C-CE0A-4E8E-A11E-333772209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5219E72-1F77-4E4E-A098-E209F61AE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4D6CE38-0945-4E55-BA42-FAA6EDB35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07D359-795B-4C9A-9430-8070762D0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10E6F1-23BA-4630-B020-EE1E22589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FD75E8-43AA-40EB-BE7E-CCE7A5C87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3328D2-8161-4A9C-8D56-3E824AEC8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0521EB-758C-49C4-BDAE-AE9088477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61ED5E-36BE-484F-A896-A6CDDF2E2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9BFB26-3953-4AB9-BB63-127B62668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056D9A-D251-406E-B420-12EB21EA6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E87656-B11F-4F94-9A00-CF0D50E60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7526C1-E3D6-48F3-877D-49ED31290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0CD0CD-142F-455D-B8D8-A307509F8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7AD527-9402-42D8-86D9-A894026A7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0781F2-4833-41D7-BCF9-0D4E6652F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D3C07BB-F526-40DD-9E33-C8681CAFC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EC1773A-1122-4591-9E5D-A8F25DFB7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BA17438-4DF0-415A-B21B-763F135D4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E9CBEE3-556C-4337-9C63-2E758D956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ADB2062-9660-41C1-A498-51827DDD0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8BB294-0529-44F6-A331-7BB468CD1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05AFF95-BE83-4310-B120-A88EF3826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7C0C2C2-9DAF-487A-9E5E-48A82A048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942C0C0-81F8-43B0-A939-0C0BB70C2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53DD765-35B4-4E9E-A9A0-F79278F73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B9A1D57-3D43-4847-B094-ABD6FDD96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013CA08-92C7-4739-885A-AEA1F2BF5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5C00598-6D32-48D1-AFC0-ACECCD81F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3778312-D548-4A68-86BC-25ABCC30B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76E3FE6-EADF-4FB9-B731-6F10491A4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5E8D614-F37E-4DFA-94F6-5E91B2A57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CC600A-6151-4D90-A387-D3FA6B0B7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C1E0A5E-9B08-4D58-8A44-8B9701E5E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A0DF2E3-2E85-4555-81C5-533478771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D631141-88F2-4334-A157-2C5250E62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063AECA-23C6-4358-B1D3-C7F8E908C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666D769-6989-44A8-AB92-61DAE8E13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30978EA-E8EA-4DBF-93E1-7B4C764F7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76961B6-FB37-496E-8D71-659D590A3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FD9BB9D-E169-4AC9-B824-CFAA33276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09F0C24-301B-4B4A-AA63-A3AAADFBD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2E8770F9-674D-45CE-B4B7-447BF2755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F26A7A-F825-4943-B426-42E9D5761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7F646D4F-9FDF-4970-AC63-526ED2E05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621F3EA5-21DD-4165-A6E9-B9AEBBF85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045D8BC1-5912-48E2-8B02-8E61B4786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99F4EB55-689E-4494-834B-8178882E4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306C6415-0D7B-4234-A459-A11B99216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6610435E-6ED4-4185-8CD6-B2BF00870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20BA589D-8090-47B3-B3C7-9ED4A663F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4B2978DF-8B7D-4B79-8FC4-85AA145EE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D18F7B63-555F-4651-8F6C-38E9334A2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167A8456-69AF-40D4-BAC8-B7169FD14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DD88BC-8203-4A98-B7FE-5D9D71337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09BDECA0-94B2-44C4-BD7D-E38CDCC51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6081B4F0-C3A4-461B-9B3A-9D4C4EDFD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C9A89292-2F30-47AD-81B7-F6C0E7BF1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BB64E781-6A93-4794-A60C-463AEC1A8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FF7F07A1-3DB9-4D47-924C-CFE332E93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AEAD6F9D-24AC-460B-8793-D95602CDB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0F7A2CB5-9091-4810-B471-7F4DC8C32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94BC2D76-7523-48E8-BAE5-730997F77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22253CFA-24E7-4C93-BF53-A1D86617B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DB8CD0E4-21C7-4F06-B5AD-80837E9E0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702069-CBF7-448C-91BB-B916C5B32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0F034568-5518-4EEA-A40D-C228197AD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15A2687F-D3DA-4FC8-BC9D-B1D862673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C5CCEE30-F622-488E-B9BC-B77AF82CC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4464-D147-4C67-AC31-EECB4C930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0D5201-A757-4B06-9BF5-44D847160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FD73D2-8B63-41F3-93B9-B2BC9D691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8D1070-0BBE-4BE8-A23A-C7319EE61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C928A0-50BE-4F44-9669-251B57998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E8530A-2CCF-4216-8CD0-506E97FE31D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56077F-1536-43EC-98A1-4174DCA9F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DFDDA8-B12C-4BD5-A995-D31C57B66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57BC11-A516-4E07-ACF9-8FD68A380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537622-2939-4ED8-AF0E-820090455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C0145A-A92E-44B9-9C6C-1D78A9444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D81E-0CC9-4B7E-97DB-A27717C4B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0DD0F7-B377-4299-9DD9-0227612B1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FBA1EF-EEBA-4D99-BFE0-801082825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083615-8324-47F0-8394-EADBD89E5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B10560-D113-4845-A78D-B35425808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2E3EBA-0F3E-46C1-A67B-DC54A6738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384DF8-3CF1-4F62-A980-E5027B77E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653742-D5D6-45A7-96C7-D266014C4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EB064FD-73FB-40E1-A7F2-CA830F968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31CB992-4AFB-4AE1-9BE5-85678820B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1E66AA7-68B3-4398-A131-914EDDFE0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FCB3-A236-4459-BEB4-98C2B8144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377E8E6-F9E2-45B5-A304-316EBA3A3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78EE331-3959-43ED-A215-78B830903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0866306-B5F0-471B-93DE-A524E5DC8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685C874-9A45-4A60-B9FE-C6586CC90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3236D0F-A668-47A8-B0B3-22722368B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D814D30-10EF-42E4-9EAB-ADB5C6042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8C0CE4B-DBEB-4313-BE44-3AD351CCF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22F7D90-3F25-4E3C-A5D9-C7BDAD6BF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35834F8-F4A5-4173-A387-499E3C3B3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D7E21FE-947C-4F90-8758-8F6DC3EC6B5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CD69-4F11-4178-A51F-9E06C5FC2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B25C170-549D-4395-8979-61E4D3F98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EE4B88B-2F46-44CA-BDED-402FFD2F3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7DAA5DC-FE94-4A45-92C0-AEAB79AEB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9A5A913-5F53-4062-911D-9C7B614C8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4E2DF73-1EE6-43C9-A00D-D89CA59EC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3CB4554-DFE2-4200-805B-DA4A1FF4B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9B36266-8904-49BC-A61B-D635470F8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DEA9943-0C6D-4F75-8B67-951398872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8CF4803-1B60-4997-A00C-328E8025D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8BDABFD-AC3F-4B02-AC01-76061DEFC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C9BE-854B-4CFB-9469-BBA968622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521F648-093B-4B87-8EA8-CD47A995AE4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F4BCC58-3290-4D1B-B7D0-2F44B3EB9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C07044F-CE39-4B1B-B06F-ADD0D3774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0072C92-1ED2-4C66-89D2-B8745F929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D90BE9E-B000-4218-BE01-34A192689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2A3BE2C-FF5D-45BC-A2DC-A5D03CB24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F361FD0-2EFE-4AB2-B44C-66151C095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22924AE-6B4F-46DA-849E-AD919464F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19968C2-8E82-4FAC-AD01-D19F5F432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4A6DF9F-7DD4-4A07-A51B-12A1DD609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4B4D-4E22-469E-9AD2-4C9921391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98BD23A-B1C4-40FF-AA75-108C05658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A38AB4A-B48C-4B92-AC28-0CD646FD4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F748389-A6BE-43A5-833C-03A6FB604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B98E906-0C01-40B3-B3D1-64FEE6E49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054CCA4-14EB-40EE-8020-4C9E4B988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F4FA55F-9476-425D-A5F9-BB9AC56BB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00452F7-ECC1-4E44-8214-92EEC0648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84BF88C-B141-4566-A73C-FDDCB50F5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92FA5ED-9998-49EB-8F6C-76FACC1F3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FD1D651-066D-493D-94E4-140BD13C7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6D48-9303-450D-9FA3-EF3FDE3B9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D9698B2-A6B6-47F1-9230-4055F20B6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E18839D-2952-40A0-A7F9-89A791079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610AF00-8FAB-4799-B1FB-3CD73F067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1E14C5D-E233-45C4-8606-D5EAB1462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1EA0EE5-C994-4D56-9B43-6E5410DC5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C33C807-2903-4EFA-8FC1-D4DC8FA9B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0AF340E-2811-49EA-878D-79AD7DAC0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9C53AEE-C5F1-4350-A881-932B46662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FD49C2E-22BB-4EE3-8123-9952CFDF3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66B1B4A-838C-4305-9E80-258CA6174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CC96-07B1-4046-B699-AD2061842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893EC16-C63C-4A03-847D-2E30B6553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5861CEE-65AE-48F5-926C-6DC89FEAB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22CD6A7-E1CC-4621-9B4A-21BA85B95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A10751C-E7AF-4A60-8B13-DFABE64A9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598BDA0-2CD6-4F43-BD32-33BF0CDA3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849514F-0313-40A6-BBBB-3FDC9ACB2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F8CB0BD-4C3E-4E48-AD8B-2E976AE4A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09F111-7E70-4103-A943-41E8104CD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A08DD9-F69B-4246-8615-ACDD98262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114B53-4A2A-4663-A68E-2807ACC04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jpe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jpe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jpe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jpe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jpe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jpe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jpe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jpe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7DFCE-2A82-4297-A670-E7DBBA1CD03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0" y="1511280"/>
            <a:ext cx="9129600" cy="4460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9"/>
          <p:cNvSpPr/>
          <p:nvPr/>
        </p:nvSpPr>
        <p:spPr>
          <a:xfrm>
            <a:off x="1403280" y="1509840"/>
            <a:ext cx="774072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960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BG MK IPA Cross-border Programme</a:t>
            </a:r>
            <a:r>
              <a:rPr b="1" lang="bg-BG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CCI Number 2007CB16IPO007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10" descr="C:\Users\tanya\Desktop\::::5. Images HR:drapeau+map.psd"/>
          <p:cNvPicPr/>
          <p:nvPr/>
        </p:nvPicPr>
        <p:blipFill>
          <a:blip r:embed="rId2"/>
          <a:stretch/>
        </p:blipFill>
        <p:spPr>
          <a:xfrm>
            <a:off x="0" y="0"/>
            <a:ext cx="9144000" cy="1509840"/>
          </a:xfrm>
          <a:prstGeom prst="rect">
            <a:avLst/>
          </a:prstGeom>
          <a:ln w="0">
            <a:noFill/>
          </a:ln>
        </p:spPr>
      </p:pic>
      <p:sp>
        <p:nvSpPr>
          <p:cNvPr id="7" name="Rectangle 11"/>
          <p:cNvSpPr/>
          <p:nvPr/>
        </p:nvSpPr>
        <p:spPr>
          <a:xfrm>
            <a:off x="0" y="1916280"/>
            <a:ext cx="9144000" cy="49417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13" descr=""/>
          <p:cNvPicPr/>
          <p:nvPr/>
        </p:nvPicPr>
        <p:blipFill>
          <a:blip r:embed="rId3"/>
          <a:stretch/>
        </p:blipFill>
        <p:spPr>
          <a:xfrm>
            <a:off x="611280" y="5661000"/>
            <a:ext cx="590400" cy="361800"/>
          </a:xfrm>
          <a:prstGeom prst="rect">
            <a:avLst/>
          </a:prstGeom>
          <a:ln w="0">
            <a:noFill/>
          </a:ln>
        </p:spPr>
      </p:pic>
      <p:sp>
        <p:nvSpPr>
          <p:cNvPr id="9" name="Text Box 14"/>
          <p:cNvSpPr/>
          <p:nvPr/>
        </p:nvSpPr>
        <p:spPr>
          <a:xfrm>
            <a:off x="611280" y="6093000"/>
            <a:ext cx="1990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This project is funded b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the European Un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Text Box 15"/>
          <p:cNvSpPr/>
          <p:nvPr/>
        </p:nvSpPr>
        <p:spPr>
          <a:xfrm>
            <a:off x="6541920" y="6093000"/>
            <a:ext cx="2133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This project is implemented b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Project Planning &amp; Management Lt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" name="Picture 16" descr="PPM_Logo_3000pix"/>
          <p:cNvPicPr/>
          <p:nvPr/>
        </p:nvPicPr>
        <p:blipFill>
          <a:blip r:embed="rId4"/>
          <a:srcRect l="0" t="0" r="0" b="951"/>
          <a:stretch/>
        </p:blipFill>
        <p:spPr>
          <a:xfrm>
            <a:off x="8172360" y="5646600"/>
            <a:ext cx="474840" cy="374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Picture 7" descr="EU flag"/>
          <p:cNvPicPr/>
          <p:nvPr/>
        </p:nvPicPr>
        <p:blipFill>
          <a:blip r:embed="rId2"/>
          <a:stretch/>
        </p:blipFill>
        <p:spPr>
          <a:xfrm>
            <a:off x="468360" y="6237360"/>
            <a:ext cx="647640" cy="438120"/>
          </a:xfrm>
          <a:prstGeom prst="rect">
            <a:avLst/>
          </a:prstGeom>
          <a:ln w="0">
            <a:noFill/>
          </a:ln>
        </p:spPr>
      </p:pic>
      <p:sp>
        <p:nvSpPr>
          <p:cNvPr id="397" name="Rectangle 9"/>
          <p:cNvSpPr/>
          <p:nvPr/>
        </p:nvSpPr>
        <p:spPr>
          <a:xfrm>
            <a:off x="0" y="0"/>
            <a:ext cx="9144000" cy="14842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Picture 9" descr=""/>
          <p:cNvPicPr/>
          <p:nvPr/>
        </p:nvPicPr>
        <p:blipFill>
          <a:blip r:embed="rId3"/>
          <a:stretch/>
        </p:blipFill>
        <p:spPr>
          <a:xfrm>
            <a:off x="8042400" y="6237360"/>
            <a:ext cx="598320" cy="504720"/>
          </a:xfrm>
          <a:prstGeom prst="rect">
            <a:avLst/>
          </a:prstGeom>
          <a:ln w="0">
            <a:noFill/>
          </a:ln>
        </p:spPr>
      </p:pic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7"/>
          </p:nvPr>
        </p:nvSpPr>
        <p:spPr>
          <a:xfrm>
            <a:off x="1476360" y="6265440"/>
            <a:ext cx="6120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s event is co- financed by the European Union through Bulgaria-Serbia IPA Cross-Border Programme CCI Number 2007CB16IPO006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2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F3B4B-B496-4E7E-BB14-759EE50FA00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Picture 7" descr="EU flag"/>
          <p:cNvPicPr/>
          <p:nvPr/>
        </p:nvPicPr>
        <p:blipFill>
          <a:blip r:embed="rId2"/>
          <a:stretch/>
        </p:blipFill>
        <p:spPr>
          <a:xfrm>
            <a:off x="468360" y="6237360"/>
            <a:ext cx="647640" cy="438120"/>
          </a:xfrm>
          <a:prstGeom prst="rect">
            <a:avLst/>
          </a:prstGeom>
          <a:ln w="0">
            <a:noFill/>
          </a:ln>
        </p:spPr>
      </p:pic>
      <p:sp>
        <p:nvSpPr>
          <p:cNvPr id="441" name="Rectangle 9"/>
          <p:cNvSpPr/>
          <p:nvPr/>
        </p:nvSpPr>
        <p:spPr>
          <a:xfrm>
            <a:off x="0" y="0"/>
            <a:ext cx="9144000" cy="14842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2" name="Picture 9" descr=""/>
          <p:cNvPicPr/>
          <p:nvPr/>
        </p:nvPicPr>
        <p:blipFill>
          <a:blip r:embed="rId3"/>
          <a:stretch/>
        </p:blipFill>
        <p:spPr>
          <a:xfrm>
            <a:off x="8042400" y="6237360"/>
            <a:ext cx="598320" cy="504720"/>
          </a:xfrm>
          <a:prstGeom prst="rect">
            <a:avLst/>
          </a:prstGeom>
          <a:ln w="0">
            <a:noFill/>
          </a:ln>
        </p:spPr>
      </p:pic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2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30"/>
          </p:nvPr>
        </p:nvSpPr>
        <p:spPr>
          <a:xfrm>
            <a:off x="1476360" y="6265440"/>
            <a:ext cx="6120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s event is co- financed by the European Union through Bulgaria-Serbia IPA Cross-Border Programme CCI Number 2007CB16IPO006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3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3484C-7E7D-4D30-8DE7-FE75AFB5A9B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4" name="Picture 7" descr="EU flag"/>
          <p:cNvPicPr/>
          <p:nvPr/>
        </p:nvPicPr>
        <p:blipFill>
          <a:blip r:embed="rId2"/>
          <a:stretch/>
        </p:blipFill>
        <p:spPr>
          <a:xfrm>
            <a:off x="468360" y="6237360"/>
            <a:ext cx="647640" cy="438120"/>
          </a:xfrm>
          <a:prstGeom prst="rect">
            <a:avLst/>
          </a:prstGeom>
          <a:ln w="0">
            <a:noFill/>
          </a:ln>
        </p:spPr>
      </p:pic>
      <p:sp>
        <p:nvSpPr>
          <p:cNvPr id="485" name="Rectangle 9"/>
          <p:cNvSpPr/>
          <p:nvPr/>
        </p:nvSpPr>
        <p:spPr>
          <a:xfrm>
            <a:off x="0" y="0"/>
            <a:ext cx="9144000" cy="14842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6" name="Picture 9" descr=""/>
          <p:cNvPicPr/>
          <p:nvPr/>
        </p:nvPicPr>
        <p:blipFill>
          <a:blip r:embed="rId3"/>
          <a:stretch/>
        </p:blipFill>
        <p:spPr>
          <a:xfrm>
            <a:off x="8042400" y="6237360"/>
            <a:ext cx="598320" cy="504720"/>
          </a:xfrm>
          <a:prstGeom prst="rect">
            <a:avLst/>
          </a:prstGeom>
          <a:ln w="0">
            <a:noFill/>
          </a:ln>
        </p:spPr>
      </p:pic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 type="dt" idx="3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 type="ftr" idx="33"/>
          </p:nvPr>
        </p:nvSpPr>
        <p:spPr>
          <a:xfrm>
            <a:off x="1476360" y="6265440"/>
            <a:ext cx="6120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s event is co- financed by the European Union through Bulgaria-Serbia IPA Cross-Border Programme CCI Number 2007CB16IPO006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 type="sldNum" idx="3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B5C90-5110-4B60-9499-48730165FC0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Picture 7" descr="EU flag"/>
          <p:cNvPicPr/>
          <p:nvPr/>
        </p:nvPicPr>
        <p:blipFill>
          <a:blip r:embed="rId2"/>
          <a:stretch/>
        </p:blipFill>
        <p:spPr>
          <a:xfrm>
            <a:off x="468360" y="6237360"/>
            <a:ext cx="647640" cy="438120"/>
          </a:xfrm>
          <a:prstGeom prst="rect">
            <a:avLst/>
          </a:prstGeom>
          <a:ln w="0">
            <a:noFill/>
          </a:ln>
        </p:spPr>
      </p:pic>
      <p:sp>
        <p:nvSpPr>
          <p:cNvPr id="529" name="Rectangle 9"/>
          <p:cNvSpPr/>
          <p:nvPr/>
        </p:nvSpPr>
        <p:spPr>
          <a:xfrm>
            <a:off x="0" y="0"/>
            <a:ext cx="9144000" cy="14842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9" descr=""/>
          <p:cNvPicPr/>
          <p:nvPr/>
        </p:nvPicPr>
        <p:blipFill>
          <a:blip r:embed="rId3"/>
          <a:stretch/>
        </p:blipFill>
        <p:spPr>
          <a:xfrm>
            <a:off x="8042400" y="6237360"/>
            <a:ext cx="598320" cy="504720"/>
          </a:xfrm>
          <a:prstGeom prst="rect">
            <a:avLst/>
          </a:prstGeom>
          <a:ln w="0">
            <a:noFill/>
          </a:ln>
        </p:spPr>
      </p:pic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 type="dt" idx="3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 type="ftr" idx="36"/>
          </p:nvPr>
        </p:nvSpPr>
        <p:spPr>
          <a:xfrm>
            <a:off x="1476360" y="6265440"/>
            <a:ext cx="6120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s event is co- financed by the European Union through Bulgaria-Serbia IPA Cross-Border Programme CCI Number 2007CB16IPO006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 type="sldNum" idx="3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9C0D8-D992-4F5E-8CA9-328AF638934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2" name="Picture 7" descr="EU flag"/>
          <p:cNvPicPr/>
          <p:nvPr/>
        </p:nvPicPr>
        <p:blipFill>
          <a:blip r:embed="rId2"/>
          <a:stretch/>
        </p:blipFill>
        <p:spPr>
          <a:xfrm>
            <a:off x="468360" y="6237360"/>
            <a:ext cx="647640" cy="438120"/>
          </a:xfrm>
          <a:prstGeom prst="rect">
            <a:avLst/>
          </a:prstGeom>
          <a:ln w="0">
            <a:noFill/>
          </a:ln>
        </p:spPr>
      </p:pic>
      <p:sp>
        <p:nvSpPr>
          <p:cNvPr id="573" name="Rectangle 9"/>
          <p:cNvSpPr/>
          <p:nvPr/>
        </p:nvSpPr>
        <p:spPr>
          <a:xfrm>
            <a:off x="0" y="0"/>
            <a:ext cx="9144000" cy="14842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Picture 9" descr=""/>
          <p:cNvPicPr/>
          <p:nvPr/>
        </p:nvPicPr>
        <p:blipFill>
          <a:blip r:embed="rId3"/>
          <a:stretch/>
        </p:blipFill>
        <p:spPr>
          <a:xfrm>
            <a:off x="8042400" y="6237360"/>
            <a:ext cx="598320" cy="504720"/>
          </a:xfrm>
          <a:prstGeom prst="rect">
            <a:avLst/>
          </a:prstGeom>
          <a:ln w="0">
            <a:noFill/>
          </a:ln>
        </p:spPr>
      </p:pic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 type="dt" idx="3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 type="ftr" idx="39"/>
          </p:nvPr>
        </p:nvSpPr>
        <p:spPr>
          <a:xfrm>
            <a:off x="1476360" y="6265440"/>
            <a:ext cx="6120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s event is co- financed by the European Union through Bulgaria-Serbia IPA Cross-Border Programme CCI Number 2007CB16IPO006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 type="sldNum" idx="4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0C086-CFD9-4A28-8542-33C495A5E1D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6" name="Picture 7" descr="EU flag"/>
          <p:cNvPicPr/>
          <p:nvPr/>
        </p:nvPicPr>
        <p:blipFill>
          <a:blip r:embed="rId2"/>
          <a:stretch/>
        </p:blipFill>
        <p:spPr>
          <a:xfrm>
            <a:off x="468360" y="6237360"/>
            <a:ext cx="647640" cy="438120"/>
          </a:xfrm>
          <a:prstGeom prst="rect">
            <a:avLst/>
          </a:prstGeom>
          <a:ln w="0">
            <a:noFill/>
          </a:ln>
        </p:spPr>
      </p:pic>
      <p:sp>
        <p:nvSpPr>
          <p:cNvPr id="617" name="Rectangle 9"/>
          <p:cNvSpPr/>
          <p:nvPr/>
        </p:nvSpPr>
        <p:spPr>
          <a:xfrm>
            <a:off x="0" y="0"/>
            <a:ext cx="9144000" cy="14842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8" name="Picture 9" descr=""/>
          <p:cNvPicPr/>
          <p:nvPr/>
        </p:nvPicPr>
        <p:blipFill>
          <a:blip r:embed="rId3"/>
          <a:stretch/>
        </p:blipFill>
        <p:spPr>
          <a:xfrm>
            <a:off x="8042400" y="6237360"/>
            <a:ext cx="598320" cy="504720"/>
          </a:xfrm>
          <a:prstGeom prst="rect">
            <a:avLst/>
          </a:prstGeom>
          <a:ln w="0">
            <a:noFill/>
          </a:ln>
        </p:spPr>
      </p:pic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 type="dt" idx="4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 type="ftr" idx="42"/>
          </p:nvPr>
        </p:nvSpPr>
        <p:spPr>
          <a:xfrm>
            <a:off x="1476360" y="6265440"/>
            <a:ext cx="6120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s event is co- financed by the European Union through Bulgaria-Serbia IPA Cross-Border Programme CCI Number 2007CB16IPO006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 type="sldNum" idx="4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03A44-EA9D-48F8-8CBF-9E58AD1B94A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0" name="Picture 7" descr="EU flag"/>
          <p:cNvPicPr/>
          <p:nvPr/>
        </p:nvPicPr>
        <p:blipFill>
          <a:blip r:embed="rId2"/>
          <a:stretch/>
        </p:blipFill>
        <p:spPr>
          <a:xfrm>
            <a:off x="468360" y="6237360"/>
            <a:ext cx="647640" cy="438120"/>
          </a:xfrm>
          <a:prstGeom prst="rect">
            <a:avLst/>
          </a:prstGeom>
          <a:ln w="0">
            <a:noFill/>
          </a:ln>
        </p:spPr>
      </p:pic>
      <p:sp>
        <p:nvSpPr>
          <p:cNvPr id="661" name="Rectangle 9"/>
          <p:cNvSpPr/>
          <p:nvPr/>
        </p:nvSpPr>
        <p:spPr>
          <a:xfrm>
            <a:off x="0" y="0"/>
            <a:ext cx="9144000" cy="14842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2" name="Picture 9" descr=""/>
          <p:cNvPicPr/>
          <p:nvPr/>
        </p:nvPicPr>
        <p:blipFill>
          <a:blip r:embed="rId3"/>
          <a:stretch/>
        </p:blipFill>
        <p:spPr>
          <a:xfrm>
            <a:off x="8042400" y="6237360"/>
            <a:ext cx="598320" cy="504720"/>
          </a:xfrm>
          <a:prstGeom prst="rect">
            <a:avLst/>
          </a:prstGeom>
          <a:ln w="0">
            <a:noFill/>
          </a:ln>
        </p:spPr>
      </p:pic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 type="dt" idx="4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 type="ftr" idx="45"/>
          </p:nvPr>
        </p:nvSpPr>
        <p:spPr>
          <a:xfrm>
            <a:off x="1476360" y="6265440"/>
            <a:ext cx="6120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s event is co- financed by the European Union through Bulgaria-Serbia IPA Cross-Border Programme CCI Number 2007CB16IPO006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 type="sldNum" idx="4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A2F9C-643F-4AAC-89E3-C13F83274E0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61F04-31DD-4869-86A7-3A516974C91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7" descr="EU flag"/>
          <p:cNvPicPr/>
          <p:nvPr/>
        </p:nvPicPr>
        <p:blipFill>
          <a:blip r:embed="rId2"/>
          <a:stretch/>
        </p:blipFill>
        <p:spPr>
          <a:xfrm>
            <a:off x="468360" y="6237360"/>
            <a:ext cx="647640" cy="43812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9"/>
          <p:cNvSpPr/>
          <p:nvPr/>
        </p:nvSpPr>
        <p:spPr>
          <a:xfrm>
            <a:off x="0" y="0"/>
            <a:ext cx="9144000" cy="14842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9" descr=""/>
          <p:cNvPicPr/>
          <p:nvPr/>
        </p:nvPicPr>
        <p:blipFill>
          <a:blip r:embed="rId3"/>
          <a:stretch/>
        </p:blipFill>
        <p:spPr>
          <a:xfrm>
            <a:off x="8042400" y="6237360"/>
            <a:ext cx="598320" cy="504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5E5D6-B5F5-48CF-BF5F-139A6176AC3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7" descr="EU flag"/>
          <p:cNvPicPr/>
          <p:nvPr/>
        </p:nvPicPr>
        <p:blipFill>
          <a:blip r:embed="rId2"/>
          <a:stretch/>
        </p:blipFill>
        <p:spPr>
          <a:xfrm>
            <a:off x="468360" y="6237360"/>
            <a:ext cx="647640" cy="43812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9"/>
          <p:cNvSpPr/>
          <p:nvPr/>
        </p:nvSpPr>
        <p:spPr>
          <a:xfrm>
            <a:off x="0" y="0"/>
            <a:ext cx="9144000" cy="14842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9" descr=""/>
          <p:cNvPicPr/>
          <p:nvPr/>
        </p:nvPicPr>
        <p:blipFill>
          <a:blip r:embed="rId3"/>
          <a:stretch/>
        </p:blipFill>
        <p:spPr>
          <a:xfrm>
            <a:off x="8042400" y="6237360"/>
            <a:ext cx="598320" cy="50472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0"/>
          </p:nvPr>
        </p:nvSpPr>
        <p:spPr>
          <a:xfrm>
            <a:off x="1476360" y="6265440"/>
            <a:ext cx="6120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s event is co- financed by the European Union through Bulgaria-Serbia IPA Cross-Border Programme CCI Number 2007CB16IPO006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43531-BACA-48D9-8D3E-DDC4380CBFD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7" descr="EU flag"/>
          <p:cNvPicPr/>
          <p:nvPr/>
        </p:nvPicPr>
        <p:blipFill>
          <a:blip r:embed="rId2"/>
          <a:stretch/>
        </p:blipFill>
        <p:spPr>
          <a:xfrm>
            <a:off x="468360" y="6237360"/>
            <a:ext cx="647640" cy="43812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9"/>
          <p:cNvSpPr/>
          <p:nvPr/>
        </p:nvSpPr>
        <p:spPr>
          <a:xfrm>
            <a:off x="0" y="0"/>
            <a:ext cx="9144000" cy="14842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9" descr=""/>
          <p:cNvPicPr/>
          <p:nvPr/>
        </p:nvPicPr>
        <p:blipFill>
          <a:blip r:embed="rId3"/>
          <a:stretch/>
        </p:blipFill>
        <p:spPr>
          <a:xfrm>
            <a:off x="8042400" y="6237360"/>
            <a:ext cx="598320" cy="5047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9" descr=""/>
          <p:cNvPicPr/>
          <p:nvPr/>
        </p:nvPicPr>
        <p:blipFill>
          <a:blip r:embed="rId4"/>
          <a:stretch/>
        </p:blipFill>
        <p:spPr>
          <a:xfrm>
            <a:off x="8042400" y="6237360"/>
            <a:ext cx="598320" cy="50472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sldNum" idx="1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88F58-F7AE-4764-81D6-6782261E18A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7" descr="EU flag"/>
          <p:cNvPicPr/>
          <p:nvPr/>
        </p:nvPicPr>
        <p:blipFill>
          <a:blip r:embed="rId2"/>
          <a:stretch/>
        </p:blipFill>
        <p:spPr>
          <a:xfrm>
            <a:off x="468360" y="6237360"/>
            <a:ext cx="647640" cy="438120"/>
          </a:xfrm>
          <a:prstGeom prst="rect">
            <a:avLst/>
          </a:prstGeom>
          <a:ln w="0">
            <a:noFill/>
          </a:ln>
        </p:spPr>
      </p:pic>
      <p:sp>
        <p:nvSpPr>
          <p:cNvPr id="221" name="Rectangle 9"/>
          <p:cNvSpPr/>
          <p:nvPr/>
        </p:nvSpPr>
        <p:spPr>
          <a:xfrm>
            <a:off x="0" y="0"/>
            <a:ext cx="9144000" cy="14842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9" descr=""/>
          <p:cNvPicPr/>
          <p:nvPr/>
        </p:nvPicPr>
        <p:blipFill>
          <a:blip r:embed="rId3"/>
          <a:stretch/>
        </p:blipFill>
        <p:spPr>
          <a:xfrm>
            <a:off x="8042400" y="6237360"/>
            <a:ext cx="598320" cy="50472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5"/>
          </p:nvPr>
        </p:nvSpPr>
        <p:spPr>
          <a:xfrm>
            <a:off x="1476360" y="6265440"/>
            <a:ext cx="6120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s event is co- financed by the European Union through Bulgaria-Serbia IPA Cross-Border Programme CCI Number 2007CB16IPO006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A64B0-6A6C-47E2-9A3A-5A135F40DE8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7" descr="EU flag"/>
          <p:cNvPicPr/>
          <p:nvPr/>
        </p:nvPicPr>
        <p:blipFill>
          <a:blip r:embed="rId2"/>
          <a:stretch/>
        </p:blipFill>
        <p:spPr>
          <a:xfrm>
            <a:off x="468360" y="6237360"/>
            <a:ext cx="647640" cy="438120"/>
          </a:xfrm>
          <a:prstGeom prst="rect">
            <a:avLst/>
          </a:prstGeom>
          <a:ln w="0">
            <a:noFill/>
          </a:ln>
        </p:spPr>
      </p:pic>
      <p:sp>
        <p:nvSpPr>
          <p:cNvPr id="265" name="Rectangle 9"/>
          <p:cNvSpPr/>
          <p:nvPr/>
        </p:nvSpPr>
        <p:spPr>
          <a:xfrm>
            <a:off x="0" y="0"/>
            <a:ext cx="9144000" cy="14842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9" descr=""/>
          <p:cNvPicPr/>
          <p:nvPr/>
        </p:nvPicPr>
        <p:blipFill>
          <a:blip r:embed="rId3"/>
          <a:stretch/>
        </p:blipFill>
        <p:spPr>
          <a:xfrm>
            <a:off x="8042400" y="6237360"/>
            <a:ext cx="598320" cy="50472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18"/>
          </p:nvPr>
        </p:nvSpPr>
        <p:spPr>
          <a:xfrm>
            <a:off x="1476360" y="6265440"/>
            <a:ext cx="6120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s event is co- financed by the European Union through Bulgaria-Serbia IPA Cross-Border Programme CCI Number 2007CB16IPO006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1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D52F3-EB4B-4FBB-BE1B-F489D10D930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7" descr="EU flag"/>
          <p:cNvPicPr/>
          <p:nvPr/>
        </p:nvPicPr>
        <p:blipFill>
          <a:blip r:embed="rId2"/>
          <a:stretch/>
        </p:blipFill>
        <p:spPr>
          <a:xfrm>
            <a:off x="468360" y="6237360"/>
            <a:ext cx="647640" cy="438120"/>
          </a:xfrm>
          <a:prstGeom prst="rect">
            <a:avLst/>
          </a:prstGeom>
          <a:ln w="0">
            <a:noFill/>
          </a:ln>
        </p:spPr>
      </p:pic>
      <p:sp>
        <p:nvSpPr>
          <p:cNvPr id="309" name="Rectangle 9"/>
          <p:cNvSpPr/>
          <p:nvPr/>
        </p:nvSpPr>
        <p:spPr>
          <a:xfrm>
            <a:off x="0" y="0"/>
            <a:ext cx="9144000" cy="14842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9" descr=""/>
          <p:cNvPicPr/>
          <p:nvPr/>
        </p:nvPicPr>
        <p:blipFill>
          <a:blip r:embed="rId3"/>
          <a:stretch/>
        </p:blipFill>
        <p:spPr>
          <a:xfrm>
            <a:off x="8042400" y="6237360"/>
            <a:ext cx="598320" cy="50472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1"/>
          </p:nvPr>
        </p:nvSpPr>
        <p:spPr>
          <a:xfrm>
            <a:off x="1476360" y="6265440"/>
            <a:ext cx="6120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s event is co- financed by the European Union through Bulgaria-Serbia IPA Cross-Border Programme CCI Number 2007CB16IPO006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84E4E-426C-4DF5-A44E-B556241CF90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Picture 7" descr="EU flag"/>
          <p:cNvPicPr/>
          <p:nvPr/>
        </p:nvPicPr>
        <p:blipFill>
          <a:blip r:embed="rId2"/>
          <a:stretch/>
        </p:blipFill>
        <p:spPr>
          <a:xfrm>
            <a:off x="468360" y="6237360"/>
            <a:ext cx="647640" cy="438120"/>
          </a:xfrm>
          <a:prstGeom prst="rect">
            <a:avLst/>
          </a:prstGeom>
          <a:ln w="0">
            <a:noFill/>
          </a:ln>
        </p:spPr>
      </p:pic>
      <p:sp>
        <p:nvSpPr>
          <p:cNvPr id="353" name="Rectangle 9"/>
          <p:cNvSpPr/>
          <p:nvPr/>
        </p:nvSpPr>
        <p:spPr>
          <a:xfrm>
            <a:off x="0" y="0"/>
            <a:ext cx="9144000" cy="14842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Picture 9" descr=""/>
          <p:cNvPicPr/>
          <p:nvPr/>
        </p:nvPicPr>
        <p:blipFill>
          <a:blip r:embed="rId3"/>
          <a:stretch/>
        </p:blipFill>
        <p:spPr>
          <a:xfrm>
            <a:off x="8042400" y="6237360"/>
            <a:ext cx="598320" cy="504720"/>
          </a:xfrm>
          <a:prstGeom prst="rect">
            <a:avLst/>
          </a:prstGeom>
          <a:ln w="0">
            <a:noFill/>
          </a:ln>
        </p:spPr>
      </p:pic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2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24"/>
          </p:nvPr>
        </p:nvSpPr>
        <p:spPr>
          <a:xfrm>
            <a:off x="1476360" y="6265440"/>
            <a:ext cx="6120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s event is co- financed by the European Union through Bulgaria-Serbia IPA Cross-Border Programme CCI Number 2007CB16IPO006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2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9CB73-3609-44A9-8123-B42EB9E0C33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8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Text Box 4"/>
          <p:cNvSpPr/>
          <p:nvPr/>
        </p:nvSpPr>
        <p:spPr>
          <a:xfrm>
            <a:off x="385920" y="2205000"/>
            <a:ext cx="859608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reparation of Bulgaria – </a:t>
            </a: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the former Yugoslav Republic of Macedonia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IPA Cross-border cooperation Programm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2014 – 20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Text Box 5"/>
          <p:cNvSpPr/>
          <p:nvPr/>
        </p:nvSpPr>
        <p:spPr>
          <a:xfrm>
            <a:off x="701640" y="3654360"/>
            <a:ext cx="760572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3rd Joint Working Group mee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Presentation of the final draft of the Program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Text Box 6"/>
          <p:cNvSpPr/>
          <p:nvPr/>
        </p:nvSpPr>
        <p:spPr>
          <a:xfrm>
            <a:off x="3132000" y="5183280"/>
            <a:ext cx="3240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0000"/>
                </a:solidFill>
                <a:latin typeface="Arial"/>
              </a:rPr>
              <a:t>Sofia, 21 August  201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Rectangle 5"/>
          <p:cNvSpPr/>
          <p:nvPr/>
        </p:nvSpPr>
        <p:spPr>
          <a:xfrm>
            <a:off x="0" y="1503360"/>
            <a:ext cx="9158400" cy="431640"/>
          </a:xfrm>
          <a:prstGeom prst="rect">
            <a:avLst/>
          </a:prstGeom>
          <a:solidFill>
            <a:srgbClr val="ffc9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                                    </a:t>
            </a: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IPA Cross-border Programme CCI Number 2007CB16IPO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8" name="Picture 6" descr=""/>
          <p:cNvPicPr/>
          <p:nvPr/>
        </p:nvPicPr>
        <p:blipFill>
          <a:blip r:embed="rId1"/>
          <a:stretch/>
        </p:blipFill>
        <p:spPr>
          <a:xfrm>
            <a:off x="1671480" y="1469880"/>
            <a:ext cx="530280" cy="446400"/>
          </a:xfrm>
          <a:prstGeom prst="rect">
            <a:avLst/>
          </a:prstGeom>
          <a:ln w="0">
            <a:noFill/>
          </a:ln>
        </p:spPr>
      </p:pic>
      <p:pic>
        <p:nvPicPr>
          <p:cNvPr id="709" name="Picture 11" descr="bulgaria-flag-64-p-small"/>
          <p:cNvPicPr/>
          <p:nvPr/>
        </p:nvPicPr>
        <p:blipFill>
          <a:blip r:embed="rId2"/>
          <a:stretch/>
        </p:blipFill>
        <p:spPr>
          <a:xfrm>
            <a:off x="2411280" y="1628640"/>
            <a:ext cx="289080" cy="181080"/>
          </a:xfrm>
          <a:prstGeom prst="rect">
            <a:avLst/>
          </a:prstGeom>
          <a:ln w="0">
            <a:noFill/>
          </a:ln>
        </p:spPr>
      </p:pic>
      <p:pic>
        <p:nvPicPr>
          <p:cNvPr id="710" name="Picture 13" descr="mkd-small"/>
          <p:cNvPicPr/>
          <p:nvPr/>
        </p:nvPicPr>
        <p:blipFill>
          <a:blip r:embed="rId3"/>
          <a:stretch/>
        </p:blipFill>
        <p:spPr>
          <a:xfrm>
            <a:off x="2771640" y="1628640"/>
            <a:ext cx="287640" cy="1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Footer Placeholder 4"/>
          <p:cNvSpPr/>
          <p:nvPr/>
        </p:nvSpPr>
        <p:spPr>
          <a:xfrm>
            <a:off x="1476360" y="6265800"/>
            <a:ext cx="6120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his event is co- financed by the European Union through Bulgaria-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former Yugoslav Republic of Macedonia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IPA Cross-Border Programme CCI Number 2007CB16IPO006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4" name="Object 1"/>
          <p:cNvGraphicFramePr/>
          <p:nvPr/>
        </p:nvGraphicFramePr>
        <p:xfrm>
          <a:off x="200160" y="1562040"/>
          <a:ext cx="8705880" cy="563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0160" y="1562040"/>
                    <a:ext cx="8705880" cy="563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CH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Rectangle 2"/>
          <p:cNvSpPr/>
          <p:nvPr/>
        </p:nvSpPr>
        <p:spPr>
          <a:xfrm>
            <a:off x="179280" y="274680"/>
            <a:ext cx="8856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Times New Roman"/>
              </a:rPr>
              <a:t>Bulgaria-the former Yugoslav Republic of Macedonia IPA Cross-border Programme (2014-2020)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                 </a:t>
            </a:r>
            <a:r>
              <a:rPr b="1" lang="en-GB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The Intervention Logic</a:t>
            </a:r>
            <a:r>
              <a:rPr b="1" lang="en-GB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[2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Rectangle 3"/>
          <p:cNvSpPr/>
          <p:nvPr/>
        </p:nvSpPr>
        <p:spPr>
          <a:xfrm>
            <a:off x="2124000" y="981000"/>
            <a:ext cx="424836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alibri"/>
                <a:ea typeface="Calibri"/>
              </a:rPr>
              <a:t>Priority Axis 1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Footer Placeholder 4"/>
          <p:cNvSpPr/>
          <p:nvPr/>
        </p:nvSpPr>
        <p:spPr>
          <a:xfrm>
            <a:off x="1476360" y="6265800"/>
            <a:ext cx="6120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his event is co- financed by the European Union through Bulgaria-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former Yugoslav Republic of Macedonia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IPA Cross-Border Programme CCI Number 2007CB16IPO007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0" name="Object 6"/>
          <p:cNvGraphicFramePr/>
          <p:nvPr/>
        </p:nvGraphicFramePr>
        <p:xfrm>
          <a:off x="177840" y="1413000"/>
          <a:ext cx="8678880" cy="570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840" y="1413000"/>
                    <a:ext cx="8678880" cy="570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CH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Rectangle 2"/>
          <p:cNvSpPr/>
          <p:nvPr/>
        </p:nvSpPr>
        <p:spPr>
          <a:xfrm>
            <a:off x="108000" y="274680"/>
            <a:ext cx="892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Times New Roman"/>
              </a:rPr>
              <a:t>Bulgaria-the former Yugoslav Republic of Macedonia IPA Cross-border Programme (2014-2020)</a:t>
            </a:r>
            <a:br>
              <a:rPr sz="1400"/>
            </a:br>
            <a:r>
              <a:rPr b="1" lang="en-GB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The Intervention Logic</a:t>
            </a:r>
            <a:r>
              <a:rPr b="1" lang="en-GB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[3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Rectangle 1"/>
          <p:cNvSpPr/>
          <p:nvPr/>
        </p:nvSpPr>
        <p:spPr>
          <a:xfrm>
            <a:off x="1116000" y="907920"/>
            <a:ext cx="604836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bri"/>
                <a:ea typeface="Calibri"/>
              </a:rPr>
              <a:t>Priority Axis 2  </a:t>
            </a:r>
            <a:r>
              <a:rPr b="1" lang="en-GB" sz="2800" spc="-1" strike="noStrike">
                <a:solidFill>
                  <a:srgbClr val="ffffff"/>
                </a:solidFill>
                <a:latin typeface="Calibri"/>
                <a:ea typeface="Calibri"/>
              </a:rPr>
              <a:t>SUSTAINABLE TOUR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Footer Placeholder 4"/>
          <p:cNvSpPr/>
          <p:nvPr/>
        </p:nvSpPr>
        <p:spPr>
          <a:xfrm>
            <a:off x="1476360" y="6265800"/>
            <a:ext cx="6120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his event is co- financed by the European Union through Bulgaria-Serbia IPA Cross-Border Programme CCI Number 2007CB16IPO007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6" name="Object 5"/>
          <p:cNvGraphicFramePr/>
          <p:nvPr/>
        </p:nvGraphicFramePr>
        <p:xfrm>
          <a:off x="177840" y="1633680"/>
          <a:ext cx="8642160" cy="539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840" y="1633680"/>
                    <a:ext cx="8642160" cy="53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Rectangle 2"/>
          <p:cNvSpPr/>
          <p:nvPr/>
        </p:nvSpPr>
        <p:spPr>
          <a:xfrm>
            <a:off x="108000" y="274680"/>
            <a:ext cx="892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Times New Roman"/>
              </a:rPr>
              <a:t>Bulgaria-the former Yugoslav Republic of Macedonia IPA Cross-border Programme (2014-2020)</a:t>
            </a:r>
            <a:br>
              <a:rPr sz="1400"/>
            </a:br>
            <a:r>
              <a:rPr b="1" lang="en-GB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The Intervention Logic</a:t>
            </a:r>
            <a:r>
              <a:rPr b="1" lang="en-GB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[4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Rectangle 1"/>
          <p:cNvSpPr/>
          <p:nvPr/>
        </p:nvSpPr>
        <p:spPr>
          <a:xfrm>
            <a:off x="1116000" y="907920"/>
            <a:ext cx="604836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bri"/>
                <a:ea typeface="Calibri"/>
              </a:rPr>
              <a:t>Priority Axis 2  </a:t>
            </a:r>
            <a:r>
              <a:rPr b="1" lang="en-GB" sz="2800" spc="-1" strike="noStrike">
                <a:solidFill>
                  <a:srgbClr val="ffffff"/>
                </a:solidFill>
                <a:latin typeface="Calibri"/>
                <a:ea typeface="Calibri"/>
              </a:rPr>
              <a:t>SUSTAINABLE TOUR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Footer Placeholder 4"/>
          <p:cNvSpPr/>
          <p:nvPr/>
        </p:nvSpPr>
        <p:spPr>
          <a:xfrm>
            <a:off x="1476360" y="6265800"/>
            <a:ext cx="6120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his event is co- financed by the European Union through Bulgaria-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former Yugoslav Republic of Macedonia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IPA Cross-Border Programme CCI Number 2007CB16IPO007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1" name="Object 3"/>
          <p:cNvGraphicFramePr/>
          <p:nvPr/>
        </p:nvGraphicFramePr>
        <p:xfrm>
          <a:off x="179280" y="1484280"/>
          <a:ext cx="8802720" cy="547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484280"/>
                    <a:ext cx="8802720" cy="547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CH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Rectangle 2"/>
          <p:cNvSpPr/>
          <p:nvPr/>
        </p:nvSpPr>
        <p:spPr>
          <a:xfrm>
            <a:off x="108000" y="274680"/>
            <a:ext cx="892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Times New Roman"/>
              </a:rPr>
              <a:t>Bulgaria-the former Yugoslav Republic of Macedonia IPA Cross-border Programme (2014-2020)</a:t>
            </a:r>
            <a:br>
              <a:rPr sz="1400"/>
            </a:br>
            <a:r>
              <a:rPr b="1" lang="en-GB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The Intervention Logic</a:t>
            </a:r>
            <a:r>
              <a:rPr b="1" lang="en-GB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[5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Rectangle 1"/>
          <p:cNvSpPr/>
          <p:nvPr/>
        </p:nvSpPr>
        <p:spPr>
          <a:xfrm>
            <a:off x="1116000" y="907920"/>
            <a:ext cx="604836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bri"/>
                <a:ea typeface="Calibri"/>
              </a:rPr>
              <a:t>Priority Axis 2  </a:t>
            </a:r>
            <a:r>
              <a:rPr b="1" lang="en-GB" sz="2800" spc="-1" strike="noStrike">
                <a:solidFill>
                  <a:srgbClr val="ffffff"/>
                </a:solidFill>
                <a:latin typeface="Calibri"/>
                <a:ea typeface="Calibri"/>
              </a:rPr>
              <a:t>SUSTAINABLE TOUR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08000" y="274320"/>
            <a:ext cx="8856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Bulgaria-the former Yugoslav Republic of Macedonia IPA Cross-border Programme (2014-2020)</a:t>
            </a:r>
            <a:br>
              <a:rPr sz="2000"/>
            </a:br>
            <a:r>
              <a:rPr b="1" lang="en-GB" sz="3200" spc="-1" strike="noStrike">
                <a:solidFill>
                  <a:srgbClr val="ffffff"/>
                </a:solidFill>
                <a:latin typeface="Calibri"/>
              </a:rPr>
              <a:t>The Intervention Logic</a:t>
            </a:r>
            <a:r>
              <a:rPr b="1" lang="en-GB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alibri"/>
              </a:rPr>
              <a:t>[7]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Footer Placeholder 4"/>
          <p:cNvSpPr/>
          <p:nvPr/>
        </p:nvSpPr>
        <p:spPr>
          <a:xfrm>
            <a:off x="1476360" y="6265800"/>
            <a:ext cx="6120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his event is co- financed by the European Union through Bulgaria-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former Yugoslav Republic of Macedonia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IPA Cross-Border Programme CCI Number 2007CB16IPO007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Rectangle 2"/>
          <p:cNvSpPr/>
          <p:nvPr/>
        </p:nvSpPr>
        <p:spPr>
          <a:xfrm>
            <a:off x="539640" y="981000"/>
            <a:ext cx="475308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  <a:ea typeface="Calibri"/>
              </a:rPr>
              <a:t>Priority Axis 3 </a:t>
            </a:r>
            <a:r>
              <a:rPr b="1" lang="en-GB" sz="2400" spc="-1" strike="noStrike">
                <a:solidFill>
                  <a:srgbClr val="ffffff"/>
                </a:solidFill>
                <a:latin typeface="Calibri"/>
                <a:ea typeface="Calibri"/>
              </a:rPr>
              <a:t>COMPETITIVE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9" name="Object 4"/>
          <p:cNvGraphicFramePr/>
          <p:nvPr/>
        </p:nvGraphicFramePr>
        <p:xfrm>
          <a:off x="104760" y="1552680"/>
          <a:ext cx="8906040" cy="518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760" y="1552680"/>
                    <a:ext cx="8906040" cy="518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108000" y="274320"/>
            <a:ext cx="8928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ulgaria-the former Yugoslav Republic of Macedonia IPA Cross-border Programme (2014-2020)</a:t>
            </a:r>
            <a:br>
              <a:rPr sz="2200"/>
            </a:br>
            <a:r>
              <a:rPr b="1" lang="en-GB" sz="3400" spc="-1" strike="noStrike">
                <a:solidFill>
                  <a:srgbClr val="ffffff"/>
                </a:solidFill>
                <a:latin typeface="Calibri"/>
              </a:rPr>
              <a:t>The Management Structure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Footer Placeholder 4"/>
          <p:cNvSpPr/>
          <p:nvPr/>
        </p:nvSpPr>
        <p:spPr>
          <a:xfrm>
            <a:off x="1476360" y="6265800"/>
            <a:ext cx="6120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his event is co- financed by the European Union through Bulgaria-</a:t>
            </a:r>
            <a:r>
              <a:rPr b="0" lang="bg-BG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bg-BG" sz="1000" spc="-1" strike="noStrike">
                <a:solidFill>
                  <a:srgbClr val="000000"/>
                </a:solidFill>
                <a:latin typeface="Arial"/>
              </a:rPr>
              <a:t>he former Yugoslav Republic of Macedonia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IPA Cross-Border Programme CCI Number 2007CB16IPO007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3" name="Object 4"/>
          <p:cNvGraphicFramePr/>
          <p:nvPr/>
        </p:nvGraphicFramePr>
        <p:xfrm>
          <a:off x="276120" y="1523880"/>
          <a:ext cx="8639280" cy="498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6120" y="1523880"/>
                    <a:ext cx="8639280" cy="498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108000" y="274320"/>
            <a:ext cx="8928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ulgaria-the former Yugoslav Republic of Macedonia IPA Cross-border Programme (2014-2020)</a:t>
            </a:r>
            <a:br>
              <a:rPr sz="2200"/>
            </a:br>
            <a:r>
              <a:rPr b="1" lang="en-GB" sz="3400" spc="-1" strike="noStrike">
                <a:solidFill>
                  <a:srgbClr val="ffffff"/>
                </a:solidFill>
                <a:latin typeface="Calibri"/>
              </a:rPr>
              <a:t>The Schedule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Footer Placeholder 4"/>
          <p:cNvSpPr/>
          <p:nvPr/>
        </p:nvSpPr>
        <p:spPr>
          <a:xfrm>
            <a:off x="1476360" y="6265800"/>
            <a:ext cx="6120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his event is co- financed by the European Union through Bulgaria-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former Yugoslav Republic of Macedonia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IPA Cross-Border Programme CCI Number 2007CB16IPO007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7" name=""/>
          <p:cNvGraphicFramePr/>
          <p:nvPr/>
        </p:nvGraphicFramePr>
        <p:xfrm>
          <a:off x="250920" y="1550880"/>
          <a:ext cx="8642160" cy="4500720"/>
        </p:xfrm>
        <a:graphic>
          <a:graphicData uri="http://schemas.openxmlformats.org/drawingml/2006/table">
            <a:tbl>
              <a:tblPr/>
              <a:tblGrid>
                <a:gridCol w="3313080"/>
                <a:gridCol w="5329080"/>
              </a:tblGrid>
              <a:tr h="384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638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orsement of the Programming document at national lev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20th August – 20th September 20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84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mission to EU for approv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up to 22nd September 20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634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otiation process and approval by E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22nd September – 31st December 20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634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paration and coordination of Mo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30th September 2014 – 30th January 20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14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ning of  Mo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February 20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638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 Monitoring Committee mee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three months after approval of the Programme by E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634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visional period for launching First Call for proposal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March - April 20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Footer Placeholder 4"/>
          <p:cNvSpPr/>
          <p:nvPr/>
        </p:nvSpPr>
        <p:spPr>
          <a:xfrm>
            <a:off x="1476360" y="6265800"/>
            <a:ext cx="6120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his event is co- financed by the European Union through Bulgaria-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former Yugoslav Republic of Macedonia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IPA Cross-Border Programme CCI Number 2007CB16IPO007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Rectangle 5"/>
          <p:cNvSpPr/>
          <p:nvPr/>
        </p:nvSpPr>
        <p:spPr>
          <a:xfrm>
            <a:off x="4140360" y="1834200"/>
            <a:ext cx="489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 Rounded MT Bold"/>
                <a:ea typeface="Arial Unicode MS"/>
              </a:rPr>
              <a:t>THANK YOU FOR Y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 Rounded MT Bold"/>
                <a:ea typeface="Arial Unicode MS"/>
              </a:rPr>
              <a:t>ATTENTI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0" name="Object 1"/>
          <p:cNvGraphicFramePr/>
          <p:nvPr/>
        </p:nvGraphicFramePr>
        <p:xfrm>
          <a:off x="0" y="1557360"/>
          <a:ext cx="3995640" cy="306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1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57360"/>
                    <a:ext cx="3995640" cy="306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2" name="Rectangle 9"/>
          <p:cNvSpPr/>
          <p:nvPr/>
        </p:nvSpPr>
        <p:spPr>
          <a:xfrm>
            <a:off x="4140360" y="4179600"/>
            <a:ext cx="4794120" cy="16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5000"/>
              </a:lnSpc>
              <a:spcBef>
                <a:spcPts val="1049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 Rounded MT Bold"/>
                <a:ea typeface="Arial Unicode MS"/>
              </a:rPr>
              <a:t>TA Programming Tea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5000"/>
              </a:lnSpc>
              <a:spcBef>
                <a:spcPts val="612"/>
              </a:spcBef>
              <a:spcAft>
                <a:spcPts val="4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 Rounded MT Bold"/>
                <a:ea typeface="Arial Unicode MS"/>
              </a:rPr>
              <a:t>Manfred KOJAN</a:t>
            </a:r>
            <a:br>
              <a:rPr sz="1400"/>
            </a:br>
            <a:r>
              <a:rPr b="0" lang="fi-FI" sz="1400" spc="-1" strike="noStrike">
                <a:solidFill>
                  <a:srgbClr val="000000"/>
                </a:solidFill>
                <a:latin typeface="Arial Rounded MT Bold"/>
                <a:ea typeface="Arial Unicode MS"/>
              </a:rPr>
              <a:t>Eleonora IVANOVA</a:t>
            </a:r>
            <a:br>
              <a:rPr sz="1400"/>
            </a:br>
            <a:r>
              <a:rPr b="0" lang="fi-FI" sz="1400" spc="-1" strike="noStrike">
                <a:solidFill>
                  <a:srgbClr val="000000"/>
                </a:solidFill>
                <a:latin typeface="Arial Rounded MT Bold"/>
                <a:ea typeface="Arial Unicode MS"/>
              </a:rPr>
              <a:t>Jasminka TASEVA JANKOV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5000"/>
              </a:lnSpc>
              <a:spcBef>
                <a:spcPts val="612"/>
              </a:spcBef>
              <a:spcAft>
                <a:spcPts val="4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1" name="Picture 2" descr="MC900439805[1]"/>
          <p:cNvPicPr/>
          <p:nvPr/>
        </p:nvPicPr>
        <p:blipFill>
          <a:blip r:embed="rId1"/>
          <a:stretch/>
        </p:blipFill>
        <p:spPr>
          <a:xfrm>
            <a:off x="306360" y="1201680"/>
            <a:ext cx="7777080" cy="5656320"/>
          </a:xfrm>
          <a:prstGeom prst="rect">
            <a:avLst/>
          </a:prstGeom>
          <a:ln w="0">
            <a:noFill/>
          </a:ln>
        </p:spPr>
      </p:pic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alibri"/>
              </a:rPr>
              <a:t>A Roadmap to Bulgaria-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the former Yugoslav Republic of Macedonia</a:t>
            </a:r>
            <a:r>
              <a:rPr b="1" lang="en-GB" sz="2800" spc="-1" strike="noStrike">
                <a:solidFill>
                  <a:srgbClr val="ffffff"/>
                </a:solidFill>
                <a:latin typeface="Calibri"/>
              </a:rPr>
              <a:t> IPA Cross-border Programme (2014-202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Footer Placeholder 4"/>
          <p:cNvSpPr/>
          <p:nvPr/>
        </p:nvSpPr>
        <p:spPr>
          <a:xfrm>
            <a:off x="1476360" y="6265800"/>
            <a:ext cx="6120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his event is co- financed by the European Union through Bulgaria-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former Yugoslav Republic of Macedonia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IPA Cross-Border Programme CCI Number 2007CB16IPO007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Group 37"/>
          <p:cNvGrpSpPr/>
          <p:nvPr/>
        </p:nvGrpSpPr>
        <p:grpSpPr>
          <a:xfrm>
            <a:off x="179280" y="1773360"/>
            <a:ext cx="8964720" cy="4319640"/>
            <a:chOff x="179280" y="1773360"/>
            <a:chExt cx="8964720" cy="4319640"/>
          </a:xfrm>
        </p:grpSpPr>
        <p:pic>
          <p:nvPicPr>
            <p:cNvPr id="715" name="Picture 5" descr="9747350_S_1"/>
            <p:cNvPicPr/>
            <p:nvPr/>
          </p:nvPicPr>
          <p:blipFill>
            <a:blip r:embed="rId2"/>
            <a:stretch/>
          </p:blipFill>
          <p:spPr>
            <a:xfrm flipH="1">
              <a:off x="395280" y="3033720"/>
              <a:ext cx="1944720" cy="140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6" name="Oval 7"/>
            <p:cNvSpPr/>
            <p:nvPr/>
          </p:nvSpPr>
          <p:spPr>
            <a:xfrm>
              <a:off x="2843280" y="2492280"/>
              <a:ext cx="288720" cy="216000"/>
            </a:xfrm>
            <a:prstGeom prst="ellipse">
              <a:avLst/>
            </a:prstGeom>
            <a:solidFill>
              <a:srgbClr val="00ff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Oval 8"/>
            <p:cNvSpPr/>
            <p:nvPr/>
          </p:nvSpPr>
          <p:spPr>
            <a:xfrm>
              <a:off x="4284720" y="2924280"/>
              <a:ext cx="288720" cy="215640"/>
            </a:xfrm>
            <a:prstGeom prst="ellipse">
              <a:avLst/>
            </a:prstGeom>
            <a:solidFill>
              <a:srgbClr val="00ff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Oval 9"/>
            <p:cNvSpPr/>
            <p:nvPr/>
          </p:nvSpPr>
          <p:spPr>
            <a:xfrm>
              <a:off x="5364000" y="3573360"/>
              <a:ext cx="289080" cy="216000"/>
            </a:xfrm>
            <a:prstGeom prst="ellipse">
              <a:avLst/>
            </a:prstGeom>
            <a:solidFill>
              <a:srgbClr val="00ff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Oval 10"/>
            <p:cNvSpPr/>
            <p:nvPr/>
          </p:nvSpPr>
          <p:spPr>
            <a:xfrm>
              <a:off x="5867280" y="4365720"/>
              <a:ext cx="289080" cy="215640"/>
            </a:xfrm>
            <a:prstGeom prst="ellipse">
              <a:avLst/>
            </a:prstGeom>
            <a:solidFill>
              <a:srgbClr val="0000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Rectangle 11"/>
            <p:cNvSpPr/>
            <p:nvPr/>
          </p:nvSpPr>
          <p:spPr>
            <a:xfrm>
              <a:off x="179280" y="1773360"/>
              <a:ext cx="252108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84000"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Establishing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a Joint Working Grou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Rectangle 12"/>
            <p:cNvSpPr/>
            <p:nvPr/>
          </p:nvSpPr>
          <p:spPr>
            <a:xfrm>
              <a:off x="3203640" y="1989000"/>
              <a:ext cx="381636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84000"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Territorial analysis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(challenges, needs, potential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Rectangle 14"/>
            <p:cNvSpPr/>
            <p:nvPr/>
          </p:nvSpPr>
          <p:spPr>
            <a:xfrm>
              <a:off x="1187280" y="3068640"/>
              <a:ext cx="298800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84000"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Strategic choices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(thematic concentration)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Rectangle 15"/>
            <p:cNvSpPr/>
            <p:nvPr/>
          </p:nvSpPr>
          <p:spPr>
            <a:xfrm>
              <a:off x="5724360" y="2924280"/>
              <a:ext cx="341964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0000"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Programming proc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drafting the Programme &lt;-&gt; Ex-ante/SEA</a:t>
              </a:r>
              <a:r>
                <a:rPr b="0" lang="en-GB" sz="1200" spc="-1" strike="noStrike">
                  <a:solidFill>
                    <a:srgbClr val="000099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Rectangle 16"/>
            <p:cNvSpPr/>
            <p:nvPr/>
          </p:nvSpPr>
          <p:spPr>
            <a:xfrm>
              <a:off x="1979640" y="4437000"/>
              <a:ext cx="309564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Programme submission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25" name="Picture 17" descr="MC900389774[1]"/>
            <p:cNvPicPr/>
            <p:nvPr/>
          </p:nvPicPr>
          <p:blipFill>
            <a:blip r:embed="rId3"/>
            <a:stretch/>
          </p:blipFill>
          <p:spPr>
            <a:xfrm>
              <a:off x="6732720" y="4768920"/>
              <a:ext cx="1584360" cy="126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6" name="Rectangle 18"/>
            <p:cNvSpPr/>
            <p:nvPr/>
          </p:nvSpPr>
          <p:spPr>
            <a:xfrm>
              <a:off x="3637080" y="5587920"/>
              <a:ext cx="309564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84000"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rogramme approv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Launch Call for Proposal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27" name="Picture 19" descr="MC900361734[1]"/>
            <p:cNvPicPr/>
            <p:nvPr/>
          </p:nvPicPr>
          <p:blipFill>
            <a:blip r:embed="rId4"/>
            <a:stretch/>
          </p:blipFill>
          <p:spPr>
            <a:xfrm>
              <a:off x="8028000" y="2349360"/>
              <a:ext cx="917640" cy="579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8" name="Picture 20" descr="MC900441322[1]"/>
            <p:cNvPicPr/>
            <p:nvPr/>
          </p:nvPicPr>
          <p:blipFill>
            <a:blip r:embed="rId5"/>
            <a:stretch/>
          </p:blipFill>
          <p:spPr>
            <a:xfrm>
              <a:off x="4708440" y="4797360"/>
              <a:ext cx="800280" cy="800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08000" y="274320"/>
            <a:ext cx="8856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lgaria-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he former Yugoslav Republic of Macedonia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 IPA Cross-border Programme (2014-2020)</a:t>
            </a:r>
            <a:br>
              <a:rPr sz="3000"/>
            </a:br>
            <a:r>
              <a:rPr b="1" lang="en-GB" sz="3200" spc="-1" strike="noStrike">
                <a:solidFill>
                  <a:srgbClr val="ffffff"/>
                </a:solidFill>
                <a:latin typeface="Calibri"/>
              </a:rPr>
              <a:t>Territorial analysis of the border reg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Footer Placeholder 4"/>
          <p:cNvSpPr/>
          <p:nvPr/>
        </p:nvSpPr>
        <p:spPr>
          <a:xfrm>
            <a:off x="1476360" y="6265800"/>
            <a:ext cx="6120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his event is co- financed by the European Union through Bulgaria-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former Yugoslav Republic of Macedonia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IPA Cross-Border Programme CCI Number 2007CB16IPO007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1" name="Group 4"/>
          <p:cNvGrpSpPr/>
          <p:nvPr/>
        </p:nvGrpSpPr>
        <p:grpSpPr>
          <a:xfrm>
            <a:off x="969840" y="1557360"/>
            <a:ext cx="7334640" cy="4608360"/>
            <a:chOff x="969840" y="1557360"/>
            <a:chExt cx="7334640" cy="4608360"/>
          </a:xfrm>
        </p:grpSpPr>
        <p:sp>
          <p:nvSpPr>
            <p:cNvPr id="732" name="Rectangle 5"/>
            <p:cNvSpPr/>
            <p:nvPr/>
          </p:nvSpPr>
          <p:spPr>
            <a:xfrm>
              <a:off x="1908000" y="1557360"/>
              <a:ext cx="2508480" cy="677880"/>
            </a:xfrm>
            <a:prstGeom prst="rect">
              <a:avLst/>
            </a:prstGeom>
            <a:solidFill>
              <a:srgbClr val="0099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he </a:t>
              </a:r>
              <a:r>
                <a:rPr b="1" lang="en-GB" sz="1600" spc="-1" strike="noStrike">
                  <a:solidFill>
                    <a:srgbClr val="ffffff"/>
                  </a:solidFill>
                  <a:latin typeface="Tahoma"/>
                </a:rPr>
                <a:t>challenges</a:t>
              </a: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 fo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BG-MK cross-border are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Rectangle 6"/>
            <p:cNvSpPr/>
            <p:nvPr/>
          </p:nvSpPr>
          <p:spPr>
            <a:xfrm>
              <a:off x="1908000" y="2637000"/>
              <a:ext cx="2508480" cy="677880"/>
            </a:xfrm>
            <a:prstGeom prst="rect">
              <a:avLst/>
            </a:prstGeom>
            <a:solidFill>
              <a:srgbClr val="0099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he </a:t>
              </a:r>
              <a:r>
                <a:rPr b="1" lang="en-GB" sz="1600" spc="-1" strike="noStrike">
                  <a:solidFill>
                    <a:srgbClr val="ffffff"/>
                  </a:solidFill>
                  <a:latin typeface="Tahoma"/>
                </a:rPr>
                <a:t>needs</a:t>
              </a: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 of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BG-MK cross-border are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Rectangle 7"/>
            <p:cNvSpPr/>
            <p:nvPr/>
          </p:nvSpPr>
          <p:spPr>
            <a:xfrm>
              <a:off x="1908000" y="3716280"/>
              <a:ext cx="2508480" cy="677880"/>
            </a:xfrm>
            <a:prstGeom prst="rect">
              <a:avLst/>
            </a:prstGeom>
            <a:solidFill>
              <a:srgbClr val="0099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8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he </a:t>
              </a:r>
              <a:r>
                <a:rPr b="1" lang="en-GB" sz="1600" spc="-1" strike="noStrike">
                  <a:solidFill>
                    <a:srgbClr val="ffffff"/>
                  </a:solidFill>
                  <a:latin typeface="Tahoma"/>
                </a:rPr>
                <a:t>potentials</a:t>
              </a: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 of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BG-MK cross-border are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Rectangle 8"/>
            <p:cNvSpPr/>
            <p:nvPr/>
          </p:nvSpPr>
          <p:spPr>
            <a:xfrm>
              <a:off x="1908000" y="4797360"/>
              <a:ext cx="2508480" cy="533520"/>
            </a:xfrm>
            <a:prstGeom prst="rect">
              <a:avLst/>
            </a:prstGeom>
            <a:solidFill>
              <a:srgbClr val="0099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Tahoma"/>
                </a:rPr>
                <a:t>CONCLUS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Rectangle 9"/>
            <p:cNvSpPr/>
            <p:nvPr/>
          </p:nvSpPr>
          <p:spPr>
            <a:xfrm>
              <a:off x="969840" y="5734080"/>
              <a:ext cx="4465800" cy="431640"/>
            </a:xfrm>
            <a:prstGeom prst="rect">
              <a:avLst/>
            </a:prstGeom>
            <a:solidFill>
              <a:srgbClr val="0099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83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Scenarios and proposal for common provisions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AutoShape 10"/>
            <p:cNvSpPr/>
            <p:nvPr/>
          </p:nvSpPr>
          <p:spPr>
            <a:xfrm>
              <a:off x="5932440" y="1557360"/>
              <a:ext cx="2098800" cy="45396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Tahoma"/>
                </a:rPr>
                <a:t>Statistical analysi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AutoShape 11"/>
            <p:cNvSpPr/>
            <p:nvPr/>
          </p:nvSpPr>
          <p:spPr>
            <a:xfrm>
              <a:off x="5932440" y="2179800"/>
              <a:ext cx="2098800" cy="45216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Tahoma"/>
                </a:rPr>
                <a:t>Document analysi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AutoShape 12"/>
            <p:cNvSpPr/>
            <p:nvPr/>
          </p:nvSpPr>
          <p:spPr>
            <a:xfrm>
              <a:off x="5932440" y="2800440"/>
              <a:ext cx="2098800" cy="45396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Tahoma"/>
                </a:rPr>
                <a:t>Needs analysis grid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AutoShape 13"/>
            <p:cNvSpPr/>
            <p:nvPr/>
          </p:nvSpPr>
          <p:spPr>
            <a:xfrm>
              <a:off x="5932440" y="3422520"/>
              <a:ext cx="2098800" cy="45432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Tahoma"/>
                </a:rPr>
                <a:t>Synergy mapp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AutoShape 14"/>
            <p:cNvSpPr/>
            <p:nvPr/>
          </p:nvSpPr>
          <p:spPr>
            <a:xfrm>
              <a:off x="5932440" y="4044960"/>
              <a:ext cx="2098800" cy="45252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Tahoma"/>
                </a:rPr>
                <a:t>Online survey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AutoShape 15"/>
            <p:cNvSpPr/>
            <p:nvPr/>
          </p:nvSpPr>
          <p:spPr>
            <a:xfrm>
              <a:off x="5932440" y="5013360"/>
              <a:ext cx="2098800" cy="452520"/>
            </a:xfrm>
            <a:prstGeom prst="roundRect">
              <a:avLst>
                <a:gd name="adj" fmla="val 16667"/>
              </a:avLst>
            </a:prstGeom>
            <a:solidFill>
              <a:srgbClr val="e7e7ff"/>
            </a:solidFill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333399"/>
                  </a:solidFill>
                  <a:latin typeface="Tahoma"/>
                </a:rPr>
                <a:t>SWOT analysi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AutoShape 16"/>
            <p:cNvSpPr/>
            <p:nvPr/>
          </p:nvSpPr>
          <p:spPr>
            <a:xfrm>
              <a:off x="5932440" y="5661000"/>
              <a:ext cx="2098800" cy="453960"/>
            </a:xfrm>
            <a:prstGeom prst="roundRect">
              <a:avLst>
                <a:gd name="adj" fmla="val 16667"/>
              </a:avLst>
            </a:prstGeom>
            <a:solidFill>
              <a:srgbClr val="e7e7ff"/>
            </a:solidFill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84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333399"/>
                  </a:solidFill>
                  <a:latin typeface="Tahoma"/>
                </a:rPr>
                <a:t>Regional Consultative Forum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44" name="AutoShape 17"/>
            <p:cNvCxnSpPr/>
            <p:nvPr/>
          </p:nvCxnSpPr>
          <p:spPr>
            <a:xfrm>
              <a:off x="8047080" y="2292480"/>
              <a:ext cx="2160" cy="621000"/>
            </a:xfrm>
            <a:prstGeom prst="bentConnector3">
              <a:avLst>
                <a:gd name="adj1" fmla="val 143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5" name="AutoShape 18"/>
            <p:cNvCxnSpPr/>
            <p:nvPr/>
          </p:nvCxnSpPr>
          <p:spPr>
            <a:xfrm>
              <a:off x="8047080" y="3082680"/>
              <a:ext cx="2160" cy="624600"/>
            </a:xfrm>
            <a:prstGeom prst="bentConnector3">
              <a:avLst>
                <a:gd name="adj1" fmla="val 131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6" name="AutoShape 19"/>
            <p:cNvCxnSpPr>
              <a:stCxn id="742" idx="1"/>
              <a:endCxn id="743" idx="1"/>
            </p:cNvCxnSpPr>
            <p:nvPr/>
          </p:nvCxnSpPr>
          <p:spPr>
            <a:xfrm flipH="1" flipV="1" rot="10800000">
              <a:off x="5912280" y="5240160"/>
              <a:ext cx="2520" cy="648360"/>
            </a:xfrm>
            <a:prstGeom prst="bentConnector3">
              <a:avLst>
                <a:gd name="adj1" fmla="val -132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7" name="AutoShape 20"/>
            <p:cNvCxnSpPr>
              <a:stCxn id="743" idx="3"/>
              <a:endCxn id="742" idx="3"/>
            </p:cNvCxnSpPr>
            <p:nvPr/>
          </p:nvCxnSpPr>
          <p:spPr>
            <a:xfrm flipV="1">
              <a:off x="8050320" y="5240160"/>
              <a:ext cx="2160" cy="648360"/>
            </a:xfrm>
            <a:prstGeom prst="bentConnector3">
              <a:avLst>
                <a:gd name="adj1" fmla="val 132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48" name="AutoShape 21"/>
            <p:cNvSpPr/>
            <p:nvPr/>
          </p:nvSpPr>
          <p:spPr>
            <a:xfrm rot="5400000">
              <a:off x="3018600" y="2183400"/>
              <a:ext cx="307800" cy="493920"/>
            </a:xfrm>
            <a:custGeom>
              <a:avLst/>
              <a:gdLst>
                <a:gd name="textAreaLeft" fmla="*/ 0 w 307800"/>
                <a:gd name="textAreaRight" fmla="*/ 308160 w 30780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791" y="0"/>
                  </a:lnTo>
                  <a:lnTo>
                    <a:pt x="21600" y="10800"/>
                  </a:lnTo>
                  <a:lnTo>
                    <a:pt x="7791" y="21600"/>
                  </a:lnTo>
                  <a:lnTo>
                    <a:pt x="0" y="21600"/>
                  </a:lnTo>
                  <a:lnTo>
                    <a:pt x="13809" y="10800"/>
                  </a:lnTo>
                  <a:close/>
                </a:path>
              </a:pathLst>
            </a:custGeom>
            <a:solidFill>
              <a:srgbClr val="0099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AutoShape 22"/>
            <p:cNvSpPr/>
            <p:nvPr/>
          </p:nvSpPr>
          <p:spPr>
            <a:xfrm rot="5400000">
              <a:off x="3018600" y="3264480"/>
              <a:ext cx="307800" cy="493920"/>
            </a:xfrm>
            <a:custGeom>
              <a:avLst/>
              <a:gdLst>
                <a:gd name="textAreaLeft" fmla="*/ 0 w 307800"/>
                <a:gd name="textAreaRight" fmla="*/ 308160 w 30780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791" y="0"/>
                  </a:lnTo>
                  <a:lnTo>
                    <a:pt x="21600" y="10800"/>
                  </a:lnTo>
                  <a:lnTo>
                    <a:pt x="7791" y="21600"/>
                  </a:lnTo>
                  <a:lnTo>
                    <a:pt x="0" y="21600"/>
                  </a:lnTo>
                  <a:lnTo>
                    <a:pt x="13809" y="10800"/>
                  </a:lnTo>
                  <a:close/>
                </a:path>
              </a:pathLst>
            </a:custGeom>
            <a:solidFill>
              <a:srgbClr val="0099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AutoShape 23"/>
            <p:cNvSpPr/>
            <p:nvPr/>
          </p:nvSpPr>
          <p:spPr>
            <a:xfrm rot="5400000">
              <a:off x="3008520" y="4344120"/>
              <a:ext cx="308160" cy="493560"/>
            </a:xfrm>
            <a:custGeom>
              <a:avLst/>
              <a:gdLst>
                <a:gd name="textAreaLeft" fmla="*/ 0 w 308160"/>
                <a:gd name="textAreaRight" fmla="*/ 308520 w 30816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791" y="0"/>
                  </a:lnTo>
                  <a:lnTo>
                    <a:pt x="21600" y="10800"/>
                  </a:lnTo>
                  <a:lnTo>
                    <a:pt x="7791" y="21600"/>
                  </a:lnTo>
                  <a:lnTo>
                    <a:pt x="0" y="21600"/>
                  </a:lnTo>
                  <a:lnTo>
                    <a:pt x="13809" y="10800"/>
                  </a:lnTo>
                  <a:close/>
                </a:path>
              </a:pathLst>
            </a:custGeom>
            <a:solidFill>
              <a:srgbClr val="0099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AutoShape 24"/>
            <p:cNvSpPr/>
            <p:nvPr/>
          </p:nvSpPr>
          <p:spPr>
            <a:xfrm rot="5400000">
              <a:off x="3008880" y="5280840"/>
              <a:ext cx="307800" cy="493560"/>
            </a:xfrm>
            <a:custGeom>
              <a:avLst/>
              <a:gdLst>
                <a:gd name="textAreaLeft" fmla="*/ 0 w 307800"/>
                <a:gd name="textAreaRight" fmla="*/ 308160 w 3078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791" y="0"/>
                  </a:lnTo>
                  <a:lnTo>
                    <a:pt x="21600" y="10800"/>
                  </a:lnTo>
                  <a:lnTo>
                    <a:pt x="7791" y="21600"/>
                  </a:lnTo>
                  <a:lnTo>
                    <a:pt x="0" y="21600"/>
                  </a:lnTo>
                  <a:lnTo>
                    <a:pt x="13809" y="10800"/>
                  </a:lnTo>
                  <a:close/>
                </a:path>
              </a:pathLst>
            </a:custGeom>
            <a:solidFill>
              <a:srgbClr val="0099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52" name="AutoShape 25"/>
            <p:cNvCxnSpPr>
              <a:stCxn id="742" idx="0"/>
              <a:endCxn id="735" idx="3"/>
            </p:cNvCxnSpPr>
            <p:nvPr/>
          </p:nvCxnSpPr>
          <p:spPr>
            <a:xfrm rot="5400000">
              <a:off x="5673240" y="3755880"/>
              <a:ext cx="70200" cy="2547000"/>
            </a:xfrm>
            <a:prstGeom prst="bentConnector4">
              <a:avLst>
                <a:gd name="adj1" fmla="val -301546"/>
                <a:gd name="adj2" fmla="val 71006"/>
              </a:avLst>
            </a:prstGeom>
            <a:ln w="38160">
              <a:solidFill>
                <a:srgbClr val="000080"/>
              </a:solidFill>
              <a:miter/>
              <a:tailEnd len="med" type="triangle" w="med"/>
            </a:ln>
          </p:spPr>
        </p:cxnSp>
        <p:sp>
          <p:nvSpPr>
            <p:cNvPr id="753" name="AutoShape 26"/>
            <p:cNvSpPr/>
            <p:nvPr/>
          </p:nvSpPr>
          <p:spPr>
            <a:xfrm>
              <a:off x="4643280" y="1773360"/>
              <a:ext cx="574920" cy="360360"/>
            </a:xfrm>
            <a:prstGeom prst="leftArrow">
              <a:avLst>
                <a:gd name="adj1" fmla="val 50000"/>
                <a:gd name="adj2" fmla="val 39885"/>
              </a:avLst>
            </a:prstGeom>
            <a:noFill/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AutoShape 27"/>
            <p:cNvSpPr/>
            <p:nvPr/>
          </p:nvSpPr>
          <p:spPr>
            <a:xfrm>
              <a:off x="4643280" y="2852640"/>
              <a:ext cx="574920" cy="360360"/>
            </a:xfrm>
            <a:prstGeom prst="leftArrow">
              <a:avLst>
                <a:gd name="adj1" fmla="val 50000"/>
                <a:gd name="adj2" fmla="val 39885"/>
              </a:avLst>
            </a:prstGeom>
            <a:noFill/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AutoShape 28"/>
            <p:cNvSpPr/>
            <p:nvPr/>
          </p:nvSpPr>
          <p:spPr>
            <a:xfrm>
              <a:off x="4643280" y="3860640"/>
              <a:ext cx="574920" cy="360360"/>
            </a:xfrm>
            <a:prstGeom prst="leftArrow">
              <a:avLst>
                <a:gd name="adj1" fmla="val 50000"/>
                <a:gd name="adj2" fmla="val 39885"/>
              </a:avLst>
            </a:prstGeom>
            <a:noFill/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AutoShape 29"/>
            <p:cNvSpPr/>
            <p:nvPr/>
          </p:nvSpPr>
          <p:spPr>
            <a:xfrm>
              <a:off x="5508720" y="1773360"/>
              <a:ext cx="358560" cy="2592360"/>
            </a:xfrm>
            <a:custGeom>
              <a:avLst/>
              <a:gdLst>
                <a:gd name="textAreaLeft" fmla="*/ 228960 w 358560"/>
                <a:gd name="textAreaRight" fmla="*/ 358560 w 358560"/>
                <a:gd name="textAreaTop" fmla="*/ 67320 h 2592360"/>
                <a:gd name="textAreaBottom" fmla="*/ 2525040 h 259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785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lgaria-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he former Yugoslav Republic of Macedonia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 IPA Cross-border Programme (2014-2020)</a:t>
            </a:r>
            <a:br>
              <a:rPr sz="2600"/>
            </a:br>
            <a:r>
              <a:rPr b="1" lang="en-GB" sz="3200" spc="-1" strike="noStrike">
                <a:solidFill>
                  <a:srgbClr val="ffffff"/>
                </a:solidFill>
                <a:latin typeface="Calibri"/>
              </a:rPr>
              <a:t>Strategic choices (thematic concentration)</a:t>
            </a:r>
            <a:r>
              <a:rPr b="1" lang="en-GB" sz="3600" spc="-1" strike="noStrike">
                <a:solidFill>
                  <a:srgbClr val="ffffff"/>
                </a:solidFill>
                <a:latin typeface="Calibri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Footer Placeholder 4"/>
          <p:cNvSpPr/>
          <p:nvPr/>
        </p:nvSpPr>
        <p:spPr>
          <a:xfrm>
            <a:off x="1476360" y="6265800"/>
            <a:ext cx="6120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his event is co- financed by the European Union through Bulgaria-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former Yugoslav Republic of Macedonia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IPA Cross-Border Programme CCI Number 2007CB16IPO007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5000"/>
              </a:lnSpc>
              <a:spcBef>
                <a:spcPts val="1250"/>
              </a:spcBef>
              <a:spcAft>
                <a:spcPts val="77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Strategic orientation of the programme – </a:t>
            </a: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max. 4 thematic prioriti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spcBef>
                <a:spcPts val="1250"/>
              </a:spcBef>
              <a:spcAft>
                <a:spcPts val="774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Assessment grid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 – an instrument for taking a decision (by the Joint Working Group)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5000"/>
              </a:lnSpc>
              <a:spcBef>
                <a:spcPts val="1001"/>
              </a:spcBef>
              <a:spcAft>
                <a:spcPts val="624"/>
              </a:spcAft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Lessons learned from the current programme (2007-201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5000"/>
              </a:lnSpc>
              <a:spcBef>
                <a:spcPts val="1001"/>
              </a:spcBef>
              <a:spcAft>
                <a:spcPts val="624"/>
              </a:spcAft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Territorial (situation) and SWOT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5000"/>
              </a:lnSpc>
              <a:spcBef>
                <a:spcPts val="1001"/>
              </a:spcBef>
              <a:spcAft>
                <a:spcPts val="624"/>
              </a:spcAft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Regional Consul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5000"/>
              </a:lnSpc>
              <a:spcBef>
                <a:spcPts val="1001"/>
              </a:spcBef>
              <a:spcAft>
                <a:spcPts val="624"/>
              </a:spcAft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Cross-border added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5000"/>
              </a:lnSpc>
              <a:spcBef>
                <a:spcPts val="1001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lgaria-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he former Yugoslav Republic of Macedonia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 IPA Cross-border Programme (2014-2020)</a:t>
            </a:r>
            <a:br>
              <a:rPr sz="4400"/>
            </a:br>
            <a:r>
              <a:rPr b="1" lang="en-GB" sz="3200" spc="-1" strike="noStrike">
                <a:solidFill>
                  <a:srgbClr val="ffffff"/>
                </a:solidFill>
                <a:latin typeface="Calibri"/>
              </a:rPr>
              <a:t>The Programme Are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Footer Placeholder 4"/>
          <p:cNvSpPr/>
          <p:nvPr/>
        </p:nvSpPr>
        <p:spPr>
          <a:xfrm>
            <a:off x="1476360" y="6265800"/>
            <a:ext cx="6120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his event is co- financed by the European Union through Bulgaria-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former Yugoslav Republic of Macedonia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IPA Cross-Border Programme CCI Number 2007CB16IPO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AutoShape 5"/>
          <p:cNvSpPr/>
          <p:nvPr/>
        </p:nvSpPr>
        <p:spPr>
          <a:xfrm>
            <a:off x="5580000" y="1557360"/>
            <a:ext cx="3492720" cy="9367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18 087 km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AutoShape 6"/>
          <p:cNvSpPr/>
          <p:nvPr/>
        </p:nvSpPr>
        <p:spPr>
          <a:xfrm>
            <a:off x="5580000" y="2637000"/>
            <a:ext cx="3492720" cy="93636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980 375 inhabita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AutoShape 7"/>
          <p:cNvSpPr/>
          <p:nvPr/>
        </p:nvSpPr>
        <p:spPr>
          <a:xfrm>
            <a:off x="5435640" y="3807000"/>
            <a:ext cx="3635280" cy="10094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BG sid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2 districts: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Blagoevgrad, Kyustend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AutoShape 9"/>
          <p:cNvSpPr/>
          <p:nvPr/>
        </p:nvSpPr>
        <p:spPr>
          <a:xfrm>
            <a:off x="3924360" y="4365720"/>
            <a:ext cx="1152360" cy="576000"/>
          </a:xfrm>
          <a:prstGeom prst="roundRect">
            <a:avLst>
              <a:gd name="adj" fmla="val 16667"/>
            </a:avLst>
          </a:prstGeom>
          <a:solidFill>
            <a:srgbClr val="e3e076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BULGAR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AutoShape 12"/>
          <p:cNvSpPr/>
          <p:nvPr/>
        </p:nvSpPr>
        <p:spPr>
          <a:xfrm>
            <a:off x="5435640" y="4910040"/>
            <a:ext cx="3635280" cy="104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MK side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3 regions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rth-East, East and South-East planning reg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AutoShape 13"/>
          <p:cNvSpPr/>
          <p:nvPr/>
        </p:nvSpPr>
        <p:spPr>
          <a:xfrm>
            <a:off x="3924360" y="5229360"/>
            <a:ext cx="1152360" cy="576000"/>
          </a:xfrm>
          <a:prstGeom prst="roundRect">
            <a:avLst>
              <a:gd name="adj" fmla="val 16667"/>
            </a:avLst>
          </a:prstGeom>
          <a:solidFill>
            <a:srgbClr val="a4e6a6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Serb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8" name="Picture 10" descr="BG-MK_Map_CBC-Region_small"/>
          <p:cNvPicPr/>
          <p:nvPr/>
        </p:nvPicPr>
        <p:blipFill>
          <a:blip r:embed="rId1"/>
          <a:srcRect l="0" t="0" r="22613" b="0"/>
          <a:stretch/>
        </p:blipFill>
        <p:spPr>
          <a:xfrm>
            <a:off x="108000" y="1663560"/>
            <a:ext cx="521820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108000" y="274320"/>
            <a:ext cx="9036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lgaria-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he former Yugoslav Republic of Macedonia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PA Cross-border Programme (2014-2020</a:t>
            </a: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)</a:t>
            </a:r>
            <a:br>
              <a:rPr sz="2600"/>
            </a:br>
            <a:r>
              <a:rPr b="1" lang="en-GB" sz="3400" spc="-1" strike="noStrike">
                <a:solidFill>
                  <a:srgbClr val="ffffff"/>
                </a:solidFill>
                <a:latin typeface="Calibri"/>
              </a:rPr>
              <a:t>Development objective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Footer Placeholder 4"/>
          <p:cNvSpPr/>
          <p:nvPr/>
        </p:nvSpPr>
        <p:spPr>
          <a:xfrm>
            <a:off x="1476360" y="6265800"/>
            <a:ext cx="6120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his event is co- financed by the European Union through Bulgaria-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former Yugoslav Republic of Macedonia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IPA Cross-Border Programme CCI Number 2007CB16IPO007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323640" y="1600200"/>
            <a:ext cx="856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lnSpc>
                <a:spcPct val="105000"/>
              </a:lnSpc>
              <a:spcBef>
                <a:spcPts val="1199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overall objective of the border region development in line with EU2020 perspectiv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105000"/>
              </a:lnSpc>
              <a:spcBef>
                <a:spcPts val="1400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o intensify cross-border cooperation between the people and institutions of the region in order to jointly address common challenges and exploit untapped potential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179280" y="727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ulgaria-the former Yugoslav Republic of Macedonia IPA Cross-border Programme (2014-2020)</a:t>
            </a:r>
            <a:br>
              <a:rPr sz="1800"/>
            </a:br>
            <a:r>
              <a:rPr b="1" lang="en-GB" sz="3200" spc="-1" strike="noStrike">
                <a:solidFill>
                  <a:srgbClr val="ffffff"/>
                </a:solidFill>
                <a:latin typeface="Calibri"/>
              </a:rPr>
              <a:t>Strategic framework</a:t>
            </a:r>
            <a:r>
              <a:rPr b="1" lang="en-GB" sz="3600" spc="-1" strike="noStrike">
                <a:solidFill>
                  <a:srgbClr val="ffffff"/>
                </a:solidFill>
                <a:latin typeface="Calibri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Footer Placeholder 4"/>
          <p:cNvSpPr/>
          <p:nvPr/>
        </p:nvSpPr>
        <p:spPr>
          <a:xfrm>
            <a:off x="1476360" y="6265800"/>
            <a:ext cx="6120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his event is co- financed by the European Union through Bulgaria-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former Yugoslav Republic of Macedonia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IPA Cross-Border Programme CCI Number 2007CB16IPO007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4" name="Picture 5" descr=""/>
          <p:cNvPicPr/>
          <p:nvPr/>
        </p:nvPicPr>
        <p:blipFill>
          <a:blip r:embed="rId1"/>
          <a:stretch/>
        </p:blipFill>
        <p:spPr>
          <a:xfrm>
            <a:off x="390600" y="1052640"/>
            <a:ext cx="8137440" cy="52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179280" y="727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ulgaria-the former Yugoslav Republic of Macedonia IPA Cross-border Programme (2014-2020)</a:t>
            </a:r>
            <a:br>
              <a:rPr sz="1800"/>
            </a:br>
            <a:r>
              <a:rPr b="1" lang="en-GB" sz="3200" spc="-1" strike="noStrike">
                <a:solidFill>
                  <a:srgbClr val="ffffff"/>
                </a:solidFill>
                <a:latin typeface="Calibri"/>
              </a:rPr>
              <a:t>Priorities &amp; Objectiv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Footer Placeholder 4"/>
          <p:cNvSpPr/>
          <p:nvPr/>
        </p:nvSpPr>
        <p:spPr>
          <a:xfrm>
            <a:off x="1476360" y="6265800"/>
            <a:ext cx="6120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his event is co- financed by the European Union through Bulgaria-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former Yugoslav Republic of Macedonia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IPA Cross-Border Programme CCI Number 2007CB16IPO007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7" name=""/>
          <p:cNvGraphicFramePr/>
          <p:nvPr/>
        </p:nvGraphicFramePr>
        <p:xfrm>
          <a:off x="395280" y="1428840"/>
          <a:ext cx="8209080" cy="4773600"/>
        </p:xfrm>
        <a:graphic>
          <a:graphicData uri="http://schemas.openxmlformats.org/drawingml/2006/table">
            <a:tbl>
              <a:tblPr/>
              <a:tblGrid>
                <a:gridCol w="1008000"/>
                <a:gridCol w="2511360"/>
                <a:gridCol w="3754440"/>
                <a:gridCol w="935280"/>
              </a:tblGrid>
              <a:tr h="409320">
                <a:tc>
                  <a:txBody>
                    <a:bodyPr lIns="26640" rIns="26640" tIns="0" bIns="0" anchor="ctr">
                      <a:noAutofit/>
                    </a:bodyPr>
                    <a:p>
                      <a:pPr>
                        <a:lnSpc>
                          <a:spcPct val="11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ority ax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6640" rIns="26640" tIns="0" bIns="0" anchor="ctr">
                      <a:noAutofit/>
                    </a:bodyPr>
                    <a:p>
                      <a:pPr>
                        <a:lnSpc>
                          <a:spcPct val="11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matic prior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6640" rIns="26640" tIns="0" bIns="0" anchor="ctr">
                      <a:noAutofit/>
                    </a:bodyPr>
                    <a:p>
                      <a:pPr>
                        <a:lnSpc>
                          <a:spcPct val="11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ific Objectiv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6640" rIns="26640" tIns="0" bIns="0" anchor="ctr">
                      <a:noAutofit/>
                    </a:bodyPr>
                    <a:p>
                      <a:pPr>
                        <a:lnSpc>
                          <a:spcPct val="11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fund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463680">
                <a:tc rowSpan="2">
                  <a:txBody>
                    <a:bodyPr lIns="26640" rIns="26640" tIns="0" bIns="0" anchor="ctr">
                      <a:noAutofit/>
                    </a:bodyPr>
                    <a:p>
                      <a:pPr>
                        <a:lnSpc>
                          <a:spcPct val="11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 1</a:t>
                      </a:r>
                      <a:br>
                        <a:rPr sz="1200"/>
                      </a:b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viron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 rowSpan="2">
                  <a:txBody>
                    <a:bodyPr lIns="26640" rIns="26640" tIns="0" bIns="0" anchor="ctr">
                      <a:noAutofit/>
                    </a:bodyPr>
                    <a:p>
                      <a:pPr>
                        <a:lnSpc>
                          <a:spcPct val="11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tecting the environment, promoting climate change adaptation and mitigation, risk prevention and manage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6640" rIns="26640" tIns="0" bIns="0" anchor="ctr">
                      <a:noAutofit/>
                    </a:bodyPr>
                    <a:p>
                      <a:pPr>
                        <a:lnSpc>
                          <a:spcPct val="112000"/>
                        </a:lnSpc>
                        <a:tabLst>
                          <a:tab algn="l" pos="0"/>
                          <a:tab algn="l" pos="7412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 1.1 Environmental protection and sustainable use of the common natural resources of  the CBC are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26640" rIns="26640" tIns="0" bIns="0" anchor="ctr">
                      <a:noAutofit/>
                    </a:bodyPr>
                    <a:p>
                      <a:pPr>
                        <a:lnSpc>
                          <a:spcPct val="11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811.5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5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6640" rIns="26640" tIns="0" bIns="0" anchor="ctr">
                      <a:noAutofit/>
                    </a:bodyPr>
                    <a:p>
                      <a:pPr>
                        <a:lnSpc>
                          <a:spcPct val="112000"/>
                        </a:lnSpc>
                        <a:tabLst>
                          <a:tab algn="l" pos="0"/>
                          <a:tab algn="l" pos="7412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 1.2 Risk prevention and mitigation the consequences of natural and manmade hazards and disasters in the CBC reg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9200">
                <a:tc rowSpan="3">
                  <a:txBody>
                    <a:bodyPr lIns="26640" rIns="26640" tIns="0" bIns="0" anchor="ctr">
                      <a:noAutofit/>
                    </a:bodyPr>
                    <a:p>
                      <a:pPr>
                        <a:lnSpc>
                          <a:spcPct val="11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 </a:t>
                      </a:r>
                      <a:br>
                        <a:rPr sz="1200"/>
                      </a:b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uris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 rowSpan="3">
                  <a:txBody>
                    <a:bodyPr lIns="26640" rIns="26640" tIns="0" bIns="0" anchor="ctr">
                      <a:noAutofit/>
                    </a:bodyPr>
                    <a:p>
                      <a:pPr>
                        <a:lnSpc>
                          <a:spcPct val="11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ouraging tourism and cultural and natural herita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6640" rIns="26640" tIns="0" bIns="0" anchor="ctr">
                      <a:noAutofit/>
                    </a:bodyPr>
                    <a:p>
                      <a:pPr>
                        <a:lnSpc>
                          <a:spcPct val="112000"/>
                        </a:lnSpc>
                        <a:tabLst>
                          <a:tab algn="l" pos="0"/>
                          <a:tab algn="l" pos="7412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 2.1: Enhancing the tourism potential of the region through better preservation and sustainable utilization of natural and cultural herita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6640" rIns="26640" tIns="0" bIns="0" anchor="ctr">
                      <a:noAutofit/>
                    </a:bodyPr>
                    <a:p>
                      <a:pPr>
                        <a:lnSpc>
                          <a:spcPct val="11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784.6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6640" rIns="26640" tIns="0" bIns="0" anchor="ctr">
                      <a:noAutofit/>
                    </a:bodyPr>
                    <a:p>
                      <a:pPr>
                        <a:lnSpc>
                          <a:spcPct val="112000"/>
                        </a:lnSpc>
                        <a:tabLst>
                          <a:tab algn="l" pos="0"/>
                          <a:tab algn="l" pos="7412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 2.2: Raising  the competitiveness of the CBC region’s tourist off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9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6640" rIns="26640" tIns="0" bIns="0" anchor="ctr">
                      <a:noAutofit/>
                    </a:bodyPr>
                    <a:p>
                      <a:pPr>
                        <a:lnSpc>
                          <a:spcPct val="112000"/>
                        </a:lnSpc>
                        <a:tabLst>
                          <a:tab algn="l" pos="0"/>
                          <a:tab algn="l" pos="7412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 2.3: Promoting cooperation among regional actors in the area of sustainable touris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23840">
                <a:tc>
                  <a:txBody>
                    <a:bodyPr lIns="26640" rIns="26640" tIns="0" bIns="0" anchor="ctr">
                      <a:noAutofit/>
                    </a:bodyPr>
                    <a:p>
                      <a:pPr>
                        <a:lnSpc>
                          <a:spcPct val="11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 3</a:t>
                      </a:r>
                      <a:br>
                        <a:rPr sz="1200"/>
                      </a:b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etitive-ne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6640" rIns="26640" tIns="0" bIns="0" anchor="ctr">
                      <a:noAutofit/>
                    </a:bodyPr>
                    <a:p>
                      <a:pPr>
                        <a:lnSpc>
                          <a:spcPct val="11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hancing competitiveness, business environment and the development of small and medium-sized enterprises, trade and invest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6640" rIns="26640" tIns="0" bIns="0" anchor="ctr">
                      <a:noAutofit/>
                    </a:bodyPr>
                    <a:p>
                      <a:pPr>
                        <a:lnSpc>
                          <a:spcPct val="112000"/>
                        </a:lnSpc>
                        <a:tabLst>
                          <a:tab algn="l" pos="0"/>
                          <a:tab algn="l" pos="7412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 3.1: Improving the competitiveness of regional business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6640" rIns="26640" tIns="0" bIns="0" anchor="ctr">
                      <a:noAutofit/>
                    </a:bodyPr>
                    <a:p>
                      <a:pPr>
                        <a:lnSpc>
                          <a:spcPct val="11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919.2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520">
                <a:tc>
                  <a:txBody>
                    <a:bodyPr lIns="26640" rIns="26640" tIns="0" bIns="0" anchor="ctr">
                      <a:noAutofit/>
                    </a:bodyPr>
                    <a:p>
                      <a:pPr>
                        <a:lnSpc>
                          <a:spcPct val="11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 4</a:t>
                      </a:r>
                      <a:br>
                        <a:rPr sz="1200"/>
                      </a:b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chnical Assistan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6640" rIns="26640" tIns="0" bIns="0" anchor="ctr">
                      <a:noAutofit/>
                    </a:bodyPr>
                    <a:p>
                      <a:pPr>
                        <a:lnSpc>
                          <a:spcPct val="11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chnical Assistan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6640" rIns="26640" tIns="0" bIns="0" anchor="ctr">
                      <a:noAutofit/>
                    </a:bodyPr>
                    <a:p>
                      <a:pPr>
                        <a:lnSpc>
                          <a:spcPct val="112000"/>
                        </a:lnSpc>
                        <a:tabLst>
                          <a:tab algn="l" pos="0"/>
                          <a:tab algn="l" pos="7412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 4.1: assuring effective Programme manage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6640" rIns="26640" tIns="0" bIns="0" anchor="ctr">
                      <a:noAutofit/>
                    </a:bodyPr>
                    <a:p>
                      <a:pPr>
                        <a:lnSpc>
                          <a:spcPct val="11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946.1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280">
                <a:tc gridSpan="3">
                  <a:txBody>
                    <a:bodyPr lIns="26640" rIns="26640" tIns="0" bIns="0" anchor="ctr">
                      <a:noAutofit/>
                    </a:bodyPr>
                    <a:p>
                      <a:pPr>
                        <a:lnSpc>
                          <a:spcPct val="112000"/>
                        </a:lnSpc>
                        <a:tabLst>
                          <a:tab algn="l" pos="0"/>
                          <a:tab algn="l" pos="7412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6640" rIns="26640" tIns="0" bIns="0" anchor="ctr">
                      <a:noAutofit/>
                    </a:bodyPr>
                    <a:p>
                      <a:pPr>
                        <a:lnSpc>
                          <a:spcPct val="11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.461.68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856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Bulgaria-the former Yugoslav Republic of Macedonia IPA Cross-border Programme (2014-2020)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                 </a:t>
            </a:r>
            <a:r>
              <a:rPr b="1" lang="en-GB" sz="3200" spc="-1" strike="noStrike">
                <a:solidFill>
                  <a:srgbClr val="ffffff"/>
                </a:solidFill>
                <a:latin typeface="Calibri"/>
              </a:rPr>
              <a:t>The Intervention Logic</a:t>
            </a:r>
            <a:r>
              <a:rPr b="1" lang="en-GB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alibri"/>
              </a:rPr>
              <a:t>[1]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Footer Placeholder 4"/>
          <p:cNvSpPr/>
          <p:nvPr/>
        </p:nvSpPr>
        <p:spPr>
          <a:xfrm>
            <a:off x="1476360" y="6265800"/>
            <a:ext cx="6120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his event is co- financed by the European Union through Bulgaria-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former Yugoslav Republic of Macedonia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IPA Cross-Border Programme CCI Number 2007CB16IPO007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Rectangle 3"/>
          <p:cNvSpPr/>
          <p:nvPr/>
        </p:nvSpPr>
        <p:spPr>
          <a:xfrm>
            <a:off x="2124000" y="981000"/>
            <a:ext cx="424836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alibri"/>
                <a:ea typeface="Calibri"/>
              </a:rPr>
              <a:t>Priority Axis 1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1" name="Object 5"/>
          <p:cNvGraphicFramePr/>
          <p:nvPr/>
        </p:nvGraphicFramePr>
        <p:xfrm>
          <a:off x="485640" y="1542960"/>
          <a:ext cx="8401320" cy="480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5640" y="1542960"/>
                    <a:ext cx="840132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2T10:40:43Z</dcterms:created>
  <dc:creator>albena</dc:creator>
  <dc:description/>
  <dc:language>en-US</dc:language>
  <cp:lastModifiedBy>Tania Dimitrova</cp:lastModifiedBy>
  <dcterms:modified xsi:type="dcterms:W3CDTF">2014-08-18T11:59:21Z</dcterms:modified>
  <cp:revision>107</cp:revision>
  <dc:subject/>
  <dc:title>Slide 1</dc:title>
</cp:coreProperties>
</file>